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4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media/image28.wmf" ContentType="image/x-wmf"/>
  <Override PartName="/ppt/media/image1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42808-2455-495C-AF21-E6101B8A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B2C5-1D50-4999-BA35-76421F1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8F40D-9139-410D-B75F-4F35901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175C-614B-4EB2-9F20-30AFF74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1C802-4F82-4C94-BE6D-C716103D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20484-CC5B-402C-8212-C40DE6A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9D3D8-F8C1-40CD-B68E-EC8B6A4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A516-6CF2-46E0-A73E-FCE6EA1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B3204-B8B7-4904-971D-6F0EB54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B420-BCE4-402C-9D0F-1CB654C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8C841-2616-46C8-A8F1-5865CDF1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5D670-BBA1-4B31-B1A3-A724958A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Georgia"/>
              </a:rPr>
              <a:t>METU/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9608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F0F-22C5-4964-830F-3284C8DDEE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11280" y="312840"/>
            <a:ext cx="48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Bilim </a:t>
            </a:r>
            <a:r>
              <a:rPr b="1" lang="tr-TR" sz="3600" spc="-1" strike="noStrike">
                <a:solidFill>
                  <a:srgbClr val="ff0000"/>
                </a:solidFill>
                <a:latin typeface="Comic Sans MS"/>
              </a:rPr>
              <a:t>İnsanı Olmak İster misiniz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240000" cy="2976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46520" y="537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zırlayan : Fatih Akyü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5877000"/>
            <a:ext cx="2952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www.fenokulu.ne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2360" y="1839960"/>
            <a:ext cx="2808360" cy="2205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53290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Comic Sans MS"/>
              </a:rPr>
              <a:t>Aklımıza gelen bir soru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1040" y="3141720"/>
            <a:ext cx="2219040" cy="2630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213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edilerin kokusu fareleri korkutur mu?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867280" y="3211560"/>
            <a:ext cx="2583000" cy="250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659640" y="260280"/>
            <a:ext cx="2303280" cy="1727280"/>
          </a:xfrm>
          <a:prstGeom prst="wedgeRoundRectCallout">
            <a:avLst>
              <a:gd name="adj1" fmla="val 2652"/>
              <a:gd name="adj2" fmla="val 127481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3040" y="69228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enemen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laz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234864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edilerin kokusu farel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orkutur mu?”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076640"/>
            <a:ext cx="73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klınıza gelen bu sorunun cevabın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ilimsel yöntemler kullanarak nasıl b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roje haline getirebilirsini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8560" y="129384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a50021"/>
                </a:solidFill>
                <a:latin typeface="Comic Sans MS"/>
              </a:rPr>
              <a:t>Bilim insanı gibi çözelim soruları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185760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352728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Örnek Pro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34936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.Olarak HİPOTEZ (varsayım veya tahmin ettiğimiz sonuç)kurun yani sorduğunuz  sorunun cevabını yada cevaplarını düşününü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680" y="3500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rduğumuz sor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36880" y="3500280"/>
            <a:ext cx="56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edilerin kokusu fareleri korkutur m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7160" y="394488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ipotezim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59920" y="393372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edilerin kokusu fareleri korku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5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338472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Örnek Pro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69360" y="234828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.İfadenizi test edebileceğiniz bir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deney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üzeneği kuru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449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edinin kokusunu nasıl elde edebilirsiniz?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5268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1125000"/>
            <a:ext cx="35272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Comic Sans MS"/>
              </a:rPr>
              <a:t>Örnek Pro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48000" y="24912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.Deneyi,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kontrol grub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hazırlayarak yapı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960" y="3099600"/>
            <a:ext cx="874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; deneyinizi aynen tekrarlayın fakat kedi koku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çermeyen saf suy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bize, farelerin özellikle kedi kokusundan kork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orkmadıklarını göster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ki fare, kedinin kokusundan değil de sizden kork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21360" y="0"/>
            <a:ext cx="222264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524720" y="476280"/>
            <a:ext cx="1430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Kontrollü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dene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360" y="1125360"/>
            <a:ext cx="37432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Örnek Pro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46960" y="3210480"/>
            <a:ext cx="91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nuçlarını tartışın ve bu sonuçların hipotezini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ğrulayıp doğrulamadığına bakı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lde edilen verileri not alın ki başkaları da sonuçları görebils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nuca ulaşamadıysanız deney düzeneğini yeniden ku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 bilim şenliği için olmasa bile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kendiniz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çin yapı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15200" y="0"/>
            <a:ext cx="272880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280" y="83628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a50021"/>
                </a:solidFill>
                <a:latin typeface="Arial Narrow"/>
              </a:rPr>
              <a:t>roje İşlem Basamaklar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1000080" cy="1123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58920" y="1773360"/>
            <a:ext cx="0" cy="46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2205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2781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284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3789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4292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4869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537372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595008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6453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8360" y="191520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Projenin sorusunu (konusunu) seç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0200" y="249120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Konunuzla ilgili bilgi toplayı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4880" y="306756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arsayımınızı (hipoteziniz)  kurun.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82720" y="40042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Kontrollü deney yapın ve sonuçları kayded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4960" y="515664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Grafikler, Tablolar, Çizimler, Modeller çiz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0560" y="57330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tadınızı hazırlay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41760" y="35722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Deneyinizi yapın.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458028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Hipotezinizin doğruluğunu kontrol edin .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77680" y="616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şunuzu yap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17760" y="1988280"/>
            <a:ext cx="57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ğer bu çalışmalar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oğru bir şekilde yaptıysanı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13040" y="378864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rtık gerçek bir bilim insanısınız !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406520" cy="234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133344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1076040" cy="1238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708360" y="615960"/>
            <a:ext cx="1440000" cy="119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148360" y="54936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120348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1197000"/>
            <a:ext cx="40816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782440"/>
            <a:ext cx="797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Ateş elektriği iletir 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Bitkiler niçin yukarı doğru uzar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Hangi temizlik maddeleri lekeleri daha iyi çıkarı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Akvaryumda domates  yetişebilir mi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Gökkuşağını nasıl oluşturabiliri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Kabuğu soyulan portakal suya batar mı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Kolanın dişlerimize ne gibi zararları vardı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32520" y="128124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Örnek Proje Soru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90340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04480" y="2383560"/>
            <a:ext cx="8814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Karabük de neden zor nefes alınıy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Hava kirliliğini nasıl önleyebiliri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Kışın buzlu yollara niçin tuz atılı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Mantarlar , bitki midi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No-frost Buzdolapları nasıl çalışı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uzaktan, en kolay tanınan renk neden kırmızıdı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1 Ton yükü en kolay 5 metre yüksekliğe nasıl çıkartabilir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Tabanın da delik olmayan saksıda bitki yetişir mi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 SİZİN DÜŞÜNDÜĞÜNÜZ HERHANGİ BAŞKA BİR KONU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5640" y="128124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Örnek proje konu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2000520" cy="3333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020000" y="260280"/>
            <a:ext cx="115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ldu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0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omic Sans MS"/>
              </a:rPr>
              <a:t>Bilim İnsanı Nasıl Olunur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-Soru Soran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-Sorunun Cevabını Araştıran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-Bir Sonuca Ulaşan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-Bulduğu Sonuçları ,Yazılı Hale Getirip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Paylaşan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</a:rPr>
              <a:t>- Her İnsan , Bilim İnsanıdır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7650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Öğretmenimden, Ailemden ya da Arkadaşlarımdan Yardım İsteyebilir miyim?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2564280"/>
            <a:ext cx="779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ilim şenliği , size kendi yetenekleriniz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ve ilginizi gösterebileceğiniz bir olana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unuyor.Öğretmenlerinizden öneri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labilirsiniz ama projeyi sizin yapmanız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stiyoruz. Sonuçta, çalışma 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ahoma"/>
              </a:rPr>
              <a:t>fikirlerin çoğu sizden ge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1800" y="129384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Projeyi nasıl sergileyeceğ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760" y="1989000"/>
            <a:ext cx="83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40 cm uzunluğun da 70 cm genişliğinde oluşturacağını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rton , mukavva veya tahta  bir stant da sunacaksını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3360" y="530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575928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92200" y="128124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Panoyu nasıl düzenleyeceği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1773360"/>
            <a:ext cx="0" cy="46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2205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781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3284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789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292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869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86520" y="19152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lanlılık ve düzenlilik ilkesine dikkat ed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71400" y="249120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teryalleri panoya dikkatlice tutturu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51240" y="2996280"/>
            <a:ext cx="76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ğer deney yapacaksanız, deney şartlarını sağlayı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5800" y="3499200"/>
            <a:ext cx="80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nonuzdaki yazıların okunabilir olmasına dikkat ed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8160" y="400428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unuşunuzu eğlenceli ve etkili yapabilirsiniz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08760" y="4581360"/>
            <a:ext cx="75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yircilerin proje günlüğünü okumasına teşvik e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537372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595008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6453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0" y="5157720"/>
            <a:ext cx="74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nklerin ve resimlerin dikkat çektiğini unutmay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0480" y="565992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şisel görünümünüzden ve kendinizden emin olu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37280" y="616464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yircilerin gözlerine bakı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47760" y="2340000"/>
            <a:ext cx="3678120" cy="3468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58920" y="1773360"/>
            <a:ext cx="0" cy="381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2205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2781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3284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378936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29264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486900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73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558972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1800" y="13651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Projemizi nasıl araştıracağı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6364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51600" y="198900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aştıracağınız konuyu net olarak belirley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31080" y="250524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ğretmeniniz ile proje konunuzu tartış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82480" y="30099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siklopedilerden anahtar kelimeleri araştır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03360" y="357336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kul ve ilçe kütüphanesinden faydalan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5120" y="405144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nternetten mutlaka faydalan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7040" y="452124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ğer çevrenizde proje konunuza hakim birisi va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utlaka konuşup projenizi tartış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98320" y="5313240"/>
            <a:ext cx="73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endinize sadece Fen Bilgisi öğretmeninizi reh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ğretmen olarak almayın .Okuldaki diğer bran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 sınıf öğretmenlerinden de yardım istey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88000" y="404640"/>
            <a:ext cx="1727280" cy="14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11280" y="2060640"/>
            <a:ext cx="777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ahoma"/>
              </a:rPr>
              <a:t>SEMİNERE KATILAN TÜ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378936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ÖĞRENCİ VE ÖĞRETMENL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79640" y="4797360"/>
            <a:ext cx="46814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ŞEKKÜRLER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256400" y="119700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Teşekkür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92200" y="5805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Fatih Akyü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www.fenokulu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80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Bu Seminer Programın da Neler Öğreneceğiz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2205000"/>
            <a:ext cx="0" cy="32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637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39337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869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445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65560" y="2300400"/>
            <a:ext cx="64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rada öğreneceğimiz her bilgiyi , yıllı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devimizi hazırlarken ve yıl sonunda ki bi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şenliğinde kullanacağı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98240" y="3595680"/>
            <a:ext cx="739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lımıza takılan soruları , nasıl bilimsel bir çalış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line getireceğimizi öğreneceğ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7040" y="4653000"/>
            <a:ext cx="80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k proje çalışmaların nasıl hazırlandığını göreceğ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9680" y="52293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je Stadımızı , nasıl hazırlamamız gerektiğ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ğreneceğiz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3565440" cy="8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Comic Sans MS"/>
              </a:rPr>
              <a:t>Bilimse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tr-TR" sz="3200" spc="-1" strike="noStrike">
                <a:solidFill>
                  <a:srgbClr val="a50021"/>
                </a:solidFill>
                <a:latin typeface="Comic Sans MS"/>
              </a:rPr>
              <a:t> proje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497320"/>
            <a:ext cx="6970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imsel proje, bilimsel yöntem kullanar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deneyin, araştırmanı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leksiyonun ya da bir buluşun sunuşudu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75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75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Bu Seminerden Nasıl En</a:t>
            </a:r>
            <a:br>
              <a:rPr sz="4000"/>
            </a:b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 İyi Nasıl Faydalanabiliriz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205000"/>
            <a:ext cx="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637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33577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3657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31080" y="230832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riye Yaslanı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14080" y="3029040"/>
            <a:ext cx="578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rada Öğreneceğiniz Her Bilgiy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llanacağınızı Unutmayı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0200" y="4037040"/>
            <a:ext cx="697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ot Tutmanıza Gerek Yoktur. Bu Sunuy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Ve Daha Bir çok Fen Bilgisi Dersin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ize faydalı Olacak Bilgiy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www.fenokulu.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an ulaşabilirsin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757520"/>
            <a:ext cx="6408720" cy="5100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2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Comic Sans MS"/>
              </a:rPr>
              <a:t>Ateş Elektriği </a:t>
            </a:r>
            <a:br>
              <a:rPr sz="4000"/>
            </a:br>
            <a:r>
              <a:rPr b="0" lang="tr-TR" sz="4000" spc="-1" strike="noStrike">
                <a:solidFill>
                  <a:srgbClr val="ff0000"/>
                </a:solidFill>
                <a:latin typeface="Comic Sans MS"/>
              </a:rPr>
              <a:t>İletir m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29320" y="1055520"/>
            <a:ext cx="49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ahoma"/>
              </a:rPr>
              <a:t>Ateş Elektriği İletir m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11397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Sorularınızın cevaplarını ancak deneyerek bulabilirsiniz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105228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ahoma"/>
              </a:rPr>
              <a:t>Bitkiler Niçin Yukarı Doğru Uzar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5113440" cy="4674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2938320" cy="295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42920" y="191628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Niç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62280"/>
            <a:ext cx="6409080" cy="480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51320" y="735120"/>
            <a:ext cx="662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Tüm Soruların Cevabından Anca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Deneyerek Emin Olabilirsini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3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3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9:15:35Z</dcterms:created>
  <dc:creator>Fatih AKYÜZ</dc:creator>
  <dc:description/>
  <cp:keywords/>
  <dc:language>en-US</dc:language>
  <cp:lastModifiedBy>alper-</cp:lastModifiedBy>
  <cp:lastPrinted>2009-04-22T19:24:48Z</cp:lastPrinted>
  <dcterms:modified xsi:type="dcterms:W3CDTF">2010-10-10T17:28:38Z</dcterms:modified>
  <cp:revision>136</cp:revision>
  <dc:subject/>
  <dc:title>CA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soe.purdue.edu/~lehman/edci663/intro663.htm</vt:lpwstr>
  </property>
  <property fmtid="{D5CDD505-2E9C-101B-9397-08002B2CF9AE}" pid="9" name="LinkColor">
    <vt:r8>16711782</vt:r8>
  </property>
  <property fmtid="{D5CDD505-2E9C-101B-9397-08002B2CF9AE}" pid="10" name="MailAddress">
    <vt:lpwstr>lehman@purdue.edu</vt:lpwstr>
  </property>
  <property fmtid="{D5CDD505-2E9C-101B-9397-08002B2CF9AE}" pid="11" name="NavBtnPos">
    <vt:r8>3</vt:r8>
  </property>
  <property fmtid="{D5CDD505-2E9C-101B-9397-08002B2CF9AE}" pid="12" name="Other">
    <vt:lpwstr>Interactive Video and Multimedia presentation by James Lehman for EDCI 663 at Purdue University, Fall 1998.</vt:lpwstr>
  </property>
  <property fmtid="{D5CDD505-2E9C-101B-9397-08002B2CF9AE}" pid="13" name="OutputDir">
    <vt:lpwstr>S:\EDCI 663\cbi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