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F6C-F1E1-4823-9F38-0E2B70C4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F82-0032-4D63-A96D-59BF8E0B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7EE-30BF-47EF-8CEB-6A10FC6F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24C-D70E-42E9-AE8A-F663F330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EFFC-C2B0-4BFF-AEC5-07C8CF26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E408-5510-496B-B306-24474057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DA4F-8A4A-4D0F-B739-C19D8D8B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A8B-F810-4708-91CD-8CC42376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4357-AA3C-4013-9DAF-7220FEF1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3931-CDC3-4943-997D-C272990D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BABB-5595-440C-B21F-4A476C1A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B82-064A-4DC8-9F21-9C4AC944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4A0F-F23F-4BCE-98B6-87585AD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F7A1-2167-4554-888A-947E2979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160A-9F95-4728-AA1C-05AFDC56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F383-F9C8-4A0B-9BDC-EBD2F992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6D66-4E9F-4E93-A83F-F8D0D4AA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900C-B74E-44AF-AEC2-7FED348C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4861-1F04-4ECF-A410-FD482A1D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5D8A-022B-42EA-8363-87A9A75D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324F-25C7-428B-9874-4CC54FE3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5B11-6988-4805-B138-6A82A37D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B22-C649-4491-96C7-CECA4CF2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B834-69AB-4DE9-A5DE-C47B07A4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D035B-D9D2-42EF-86B7-EB977775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0E07-0BE8-430E-95A7-1A3086E5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1196-4E6E-4509-8F18-9C76BD3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F8F4-DCC3-4D48-8864-C3AE9FF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4D5C-DE8E-4433-B8DD-9ACBB91F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79D2-5388-4C9E-8286-67F92E07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9F752-76B7-46B9-BB2F-C2DD2A77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55CB-75AF-494E-997D-45FE5A05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77AA0-267C-45B3-9B3D-064BCCDB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FAD-65BE-47D6-B4EE-24B70EA6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F55B-6D1E-46F2-809E-9FDBC4E2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4D62C-4C84-446C-9AC2-7FBEEACA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3F4AB-52F5-46C5-997F-F5641EB4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6B5C3-E57C-4E2F-A9B5-852C9E99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B9F6-1E06-4B06-9072-A091791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0525-4717-42EE-AFFF-CC2F362B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E140-7F5E-4104-B00F-B52322A3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5805-9757-4609-B867-BC60DD1A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582B-E65F-4195-A4A6-D3DB55F4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900C6-5990-4CE4-BF77-79FF0D10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7D4-8FD4-4D88-9BDD-F81D5438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2C65-0EF8-41AC-B26F-48373710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03A8-EEC6-401B-BC5C-5E62CF65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99E8-7CA1-499D-B178-383289C9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11E04-CAC2-46E1-80A7-9EB83894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1D53-0A82-4258-941E-5FD3EA95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DA8CF-2881-49AD-88C9-5432F2A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6727-274D-4DED-AAB0-11F202D1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A6AB2-2C26-42EE-95EF-01FC0ACD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47D4-9710-446D-8001-91746F22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E105E-0A10-4238-8BE2-36983A20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533-552F-41F1-91E4-57598F65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4EE1F-440C-464F-9494-D02AD495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6A191-1685-42FE-83FE-6B4466B9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B23AC-9125-4EDB-9C26-41B6CB58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3F3C-B32C-483B-9D7B-27502C8B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08EF-3709-443B-91D9-8CE889FD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1B11C-778D-4BAE-88CD-09E9E82E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6C128-B1C1-4CA5-AB60-EA513552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44D81-74D7-4190-A482-4F09CA55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86FE0-A715-4569-95BD-81E0190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ED71-ADDB-4CD9-92CE-632C9AA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F86-EDB9-4DE2-B832-91D5B1A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C6BC-BDFC-4FBE-AD61-02166DD5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1963B-A318-4AD6-BCF4-2112D357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212C-3AFD-41DB-9F60-D6004EA3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A61A9-ED38-4541-A4A7-1BE4E5B4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7B494-504F-4420-A3A0-F5BA37F2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5B1F-4F27-44A4-9A9B-B4E56A46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34890-A802-4052-BE19-7D53267A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3DACD-1704-455D-971A-6E7F132D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43FA7-873F-4D18-A05F-6E793D9B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51A91-F6A9-42D7-A387-EB14DE99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1CE-EA9D-43E3-8065-9BD3A21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538E-7688-4C50-BE06-F011959A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6712C-5F3F-4DE2-8548-2989201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3D396-0887-4B7A-B6A8-7F2A7378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CC7A-5CE9-4DD6-B416-6D95F369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320E8-9D84-4EE7-901D-1FD88038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5B479-ECFF-4097-8D03-7A10F93C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DCA22-E1D9-47C3-9E28-462386A3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827EF-DD5A-4F1D-A0D3-A9BC5A8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EEA89-39A2-42CD-A93F-20B0AAF1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4E148-1D09-436E-9FA4-8F13010A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B26-ABD0-4C15-84CA-946F5389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7C8E7-1769-4B22-8194-D2E49453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F91D-DBC1-4976-AB79-8C7E75C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0446C-42AF-49C6-8BCA-DD9EEDEF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4E1F5-43D2-4BF5-B4B8-BEABF993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8C43-6322-433C-B501-E4A98032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00E68-CFA0-4B5F-81CA-869D5F0F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DE49B-1B4D-430C-B22B-B50E266E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Serbest Form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Serbest Form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Dik Üçgen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Düz Bağlayıcı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E26F-6D02-4315-A44F-6269A04DE422}" type="slidenum"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Dik Üçgen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Serbest Form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Serbest Form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Serbest Form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19 Serbest Form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Düz Bağlayıcı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4A91-D110-4174-9465-B69E6870075E}" type="slidenum">
              <a:rPr b="0" lang="tr-T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Serbest Form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Serbest Form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Dik Üçgen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Düz Bağlayıcı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Köşeli Çift Ayraç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Köşeli Çift Ayraç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92AC-B845-4CF8-ADEB-2A788F6004E1}" type="slidenum"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Serbest Form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Serbest Form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Dik Üçgen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Düz Bağlayıcı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1237-1BDE-4D3E-AEE4-BFB06F803EC9}" type="slidenum"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E460-B948-4BFF-8B25-58BC6F29349E}" type="slidenum"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Serbest Form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Serbest Form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Dik Üçgen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Düz Bağlayıcı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755B-BCA2-457B-BA46-53F9BA14F05A}" type="slidenum"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A7A9-F425-45AC-BEE4-677848B3D788}" type="slidenum">
              <a:rPr b="0" lang="tr-T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Serbest Form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Serbest Form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Dik Üçgen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Dik Üçgen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Düz Bağlayıcı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Köşeli Çift Ayraç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Köşeli Çift Ayraç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9B7-1BFE-4889-A657-5F07DE174686}" type="slidenum">
              <a:rPr b="0" lang="tr-T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14200" y="2142720"/>
            <a:ext cx="87156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600" spc="-1" strike="noStrike">
                <a:solidFill>
                  <a:srgbClr val="ff0000"/>
                </a:solidFill>
                <a:latin typeface="Arial Black"/>
              </a:rPr>
              <a:t>KUVVET</a:t>
            </a:r>
            <a:endParaRPr b="0" lang="en-US" sz="7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tr-TR" sz="7600" spc="-1" strike="noStrike">
                <a:solidFill>
                  <a:srgbClr val="ff0000"/>
                </a:solidFill>
                <a:latin typeface="Arial Black"/>
              </a:rPr>
              <a:t>VE </a:t>
            </a:r>
            <a:endParaRPr b="0" lang="en-US" sz="7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600" spc="-1" strike="noStrike">
                <a:solidFill>
                  <a:srgbClr val="ff0000"/>
                </a:solidFill>
                <a:latin typeface="Arial Black"/>
              </a:rPr>
              <a:t>HAREKET</a:t>
            </a:r>
            <a:endParaRPr b="0" lang="en-US" sz="7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2 Yuvarlatılmış Dikdörtgen"/>
          <p:cNvSpPr/>
          <p:nvPr/>
        </p:nvSpPr>
        <p:spPr>
          <a:xfrm>
            <a:off x="1785960" y="428760"/>
            <a:ext cx="542916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269"/>
              </a:gs>
              <a:gs pos="100000">
                <a:srgbClr val="2abae3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ffffff"/>
                </a:solidFill>
                <a:latin typeface="Arial Black"/>
              </a:rPr>
              <a:t>2.ÜNİ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3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43040" y="0"/>
            <a:ext cx="588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739800" y="0"/>
            <a:ext cx="84042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5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2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1357200" y="0"/>
            <a:ext cx="65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2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214280" y="0"/>
            <a:ext cx="714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2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1214280" y="500040"/>
            <a:ext cx="72327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2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1643040" y="0"/>
            <a:ext cx="609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2 Dikdörtgen"/>
          <p:cNvSpPr/>
          <p:nvPr/>
        </p:nvSpPr>
        <p:spPr>
          <a:xfrm>
            <a:off x="0" y="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9093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2 Dikdörtgen"/>
          <p:cNvSpPr/>
          <p:nvPr/>
        </p:nvSpPr>
        <p:spPr>
          <a:xfrm>
            <a:off x="0" y="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1857240"/>
            <a:ext cx="9144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2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71720" y="357120"/>
            <a:ext cx="72482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2 Dikdörtgen"/>
          <p:cNvSpPr/>
          <p:nvPr/>
        </p:nvSpPr>
        <p:spPr>
          <a:xfrm>
            <a:off x="0" y="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28880" y="0"/>
            <a:ext cx="589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214720"/>
            <a:ext cx="91440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0" spc="-1" strike="noStrike">
                <a:solidFill>
                  <a:srgbClr val="ff0000"/>
                </a:solidFill>
                <a:latin typeface="Arial Black"/>
              </a:rPr>
              <a:t>SÜRATİ HESAPLAYALIM</a:t>
            </a:r>
            <a:endParaRPr b="0" lang="en-US" sz="7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2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143000" y="0"/>
            <a:ext cx="67755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2 Dikdörtgen"/>
          <p:cNvSpPr/>
          <p:nvPr/>
        </p:nvSpPr>
        <p:spPr>
          <a:xfrm>
            <a:off x="0" y="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5840" y="1143000"/>
            <a:ext cx="84294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4200" y="0"/>
            <a:ext cx="8729640" cy="6643800"/>
          </a:xfrm>
          <a:prstGeom prst="rect">
            <a:avLst/>
          </a:prstGeom>
          <a:ln w="0">
            <a:noFill/>
          </a:ln>
        </p:spPr>
      </p:pic>
      <p:sp>
        <p:nvSpPr>
          <p:cNvPr id="412" name="3 Dikdörtgen"/>
          <p:cNvSpPr/>
          <p:nvPr/>
        </p:nvSpPr>
        <p:spPr>
          <a:xfrm rot="16200000">
            <a:off x="7750800" y="124956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071720" y="0"/>
            <a:ext cx="7858080" cy="6442200"/>
          </a:xfrm>
          <a:prstGeom prst="rect">
            <a:avLst/>
          </a:prstGeom>
          <a:ln w="0">
            <a:noFill/>
          </a:ln>
        </p:spPr>
      </p:pic>
      <p:sp>
        <p:nvSpPr>
          <p:cNvPr id="414" name="3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2 Dikdörtgen"/>
          <p:cNvSpPr/>
          <p:nvPr/>
        </p:nvSpPr>
        <p:spPr>
          <a:xfrm>
            <a:off x="0" y="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857240" y="0"/>
            <a:ext cx="56437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2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071720" y="285840"/>
            <a:ext cx="7419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2 Dikdörtgen"/>
          <p:cNvSpPr/>
          <p:nvPr/>
        </p:nvSpPr>
        <p:spPr>
          <a:xfrm>
            <a:off x="0" y="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6072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3427560" y="0"/>
            <a:ext cx="571644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4 Dikdörtgen"/>
          <p:cNvSpPr/>
          <p:nvPr/>
        </p:nvSpPr>
        <p:spPr>
          <a:xfrm>
            <a:off x="0" y="1071720"/>
            <a:ext cx="3429000" cy="4286160"/>
          </a:xfrm>
          <a:prstGeom prst="rect">
            <a:avLst/>
          </a:prstGeom>
          <a:solidFill>
            <a:srgbClr val="ffff00"/>
          </a:soli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Lucida Sans Unicode"/>
              </a:rPr>
              <a:t>KİTABA GÖSTERDİĞİNİZ YOĞ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Lucida Sans Unicode"/>
              </a:rPr>
              <a:t>İLGİYE TEŞEKKÜR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Lucida Sans Unicode"/>
              </a:rPr>
              <a:t>SİPARİŞLER İÇİN BRANŞ AKADEM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2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000080" y="0"/>
            <a:ext cx="751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96440" cy="6072120"/>
          </a:xfrm>
          <a:prstGeom prst="rect">
            <a:avLst/>
          </a:prstGeom>
          <a:ln w="0">
            <a:noFill/>
          </a:ln>
        </p:spPr>
      </p:pic>
      <p:sp>
        <p:nvSpPr>
          <p:cNvPr id="376" name="4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121428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378" name="4 Dikdörtgen"/>
          <p:cNvSpPr/>
          <p:nvPr/>
        </p:nvSpPr>
        <p:spPr>
          <a:xfrm>
            <a:off x="0" y="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2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1928880"/>
            <a:ext cx="9144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1000080" y="428760"/>
            <a:ext cx="7572600" cy="5734080"/>
          </a:xfrm>
          <a:prstGeom prst="rect">
            <a:avLst/>
          </a:prstGeom>
          <a:ln w="0">
            <a:noFill/>
          </a:ln>
        </p:spPr>
      </p:pic>
      <p:sp>
        <p:nvSpPr>
          <p:cNvPr id="382" name="4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3 Dikdörtgen"/>
          <p:cNvSpPr/>
          <p:nvPr/>
        </p:nvSpPr>
        <p:spPr>
          <a:xfrm rot="16200000">
            <a:off x="-392760" y="39240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43000" y="0"/>
            <a:ext cx="71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28760" y="1000080"/>
            <a:ext cx="8286480" cy="5622840"/>
          </a:xfrm>
          <a:prstGeom prst="rect">
            <a:avLst/>
          </a:prstGeom>
          <a:ln w="0">
            <a:noFill/>
          </a:ln>
        </p:spPr>
      </p:pic>
      <p:sp>
        <p:nvSpPr>
          <p:cNvPr id="386" name="4 Dikdörtgen"/>
          <p:cNvSpPr/>
          <p:nvPr/>
        </p:nvSpPr>
        <p:spPr>
          <a:xfrm>
            <a:off x="0" y="0"/>
            <a:ext cx="1785960" cy="100008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 Black"/>
              </a:rPr>
              <a:t>SORU          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8T20:56:13Z</dcterms:created>
  <dc:creator>HP</dc:creator>
  <dc:description/>
  <dc:language>en-US</dc:language>
  <cp:lastModifiedBy>FATİH AKYÜZ</cp:lastModifiedBy>
  <dcterms:modified xsi:type="dcterms:W3CDTF">2017-12-15T08:59:49Z</dcterms:modified>
  <cp:revision>180</cp:revision>
  <dc:subject/>
  <dc:title>Slayt 1</dc:title>
</cp:coreProperties>
</file>