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EC1-5453-4642-9F06-2428DBF4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B68-2311-40D4-9E5C-3D597994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E4EE-C1C7-48C0-96C9-0F92B195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0FE-502A-4138-A5F4-B7C2B853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535B-E01B-4617-AC52-8D660334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FCE4-B105-4CAF-8A6C-69D5744C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C12F-3E16-458D-899A-A40CA695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14B0-5191-4073-8162-D1A20333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1544-BFD3-4260-811B-3CB9B83B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FD78-5334-4295-B1CB-546608B1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E9A0-45A2-47A5-A837-3FA56F70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0734-3614-4CC2-AD76-8980EE38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4E3F-53BC-4B1D-A33E-1CC72035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D2F1-2CE6-4DA9-BB33-308E74A7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5DE6-6DCE-43DF-8F58-A5D3EE33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88FD-BE8C-472E-9C92-D0262651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4601-7F74-4AC5-A6D1-B67D2B9F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8D5D6-3D2B-4824-80B1-20D42DD7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D72A3-079D-4034-B113-10D20108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51D85-5795-4C47-B545-5425BCDD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09F2-6CC6-40C8-A4CC-F32E9EC1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93FD1-41B3-44C4-BF90-DDF42A92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041-4528-422F-B099-47E24DC6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C776A-36B5-45C7-8804-9E080C91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ECE7F-0DAE-4470-8962-BC4FB1D1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C2701-5CFE-4D46-8571-5653391A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02EDA-F7FC-45FC-8713-B3CDA828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B978C-06CA-416C-BC65-81CE9D94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6EBE6-C91F-4DBD-BF6C-06EA9067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17AD9-6753-43D3-98DC-222A5BB9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EB159-A088-497B-8D98-C35A9891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14B89-200A-4F69-A23E-019C8CDE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64893-5A22-4114-ADED-86FC9F9A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D265-DF7E-4A4D-9C3F-F5F9D9AA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6C079-B714-4EE6-BA17-CB63B3DD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D3570-37FE-4521-9015-FD99F3CA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A266E-1427-4FD4-B43C-BEB2FF10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870C7-F599-4BE3-BAEA-A94204BD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2BDBB-BB43-462C-ABF5-F0667683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996DF-B52A-4CCE-BB58-38D4EF45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60013-3826-44D8-84C7-9E15EE5B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A30E7-0721-4197-BF30-2759AB38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A515-3264-4B44-9A63-E1664A34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0CBB7-C03D-44B9-AD32-F50F9DEA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EB2-279E-495C-84A1-9B9045FA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E5C1B-1F35-462F-9CA1-3C016022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F5488-6803-4D2E-B3D5-E054241E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2B06C-A7D0-44E2-B08B-72265841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52F91-06C0-44EC-AB2C-7FB3AF21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13D9F-AF57-4D80-A017-6570D81B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BB9A4-6524-41C1-B7F8-330D57E2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D6DC1-B4BC-409F-A44B-930B1E53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2E1D0-C84A-474A-BB5F-537D29C3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D67A4-DA77-467C-AB6C-4331882A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9B9FC-2260-4D9B-8AF0-8010A617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742-96B8-466F-AA8C-43987546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40DF7-D9EE-4C82-9149-5AC5AC34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A62C5-5ABE-4781-A391-B91D2AE6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9A22A-59C5-4DEA-BE71-BB6590F6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280E6-A874-4FDC-9950-9B027961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43B22-C5B5-4B21-B596-221CD219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4A380-72D6-42D2-83A5-5C3EEEE4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1A494-EF5A-4C76-80CB-70ABB367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93B96-B2C8-40F6-8250-1CFCA729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99259-2986-4EDC-916B-863A40F2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B08B1-16DA-4ABB-A7D6-3F547DB4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DB8-9F4E-47BE-B45A-598430CA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0D768-1EA3-45C0-9DC2-2C16A879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7BA16-FF3F-4360-B93A-EB1529E2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2D016-6006-49A6-AC9A-58BE8008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55ED9-025B-4E8F-ABE7-881A0631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C0694-06E1-4E42-A791-4E4414AA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663E2-20DF-4249-9D36-ABEB100D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F6E48-2149-45DF-BB11-E4534CAF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0B289-33F0-4C42-B47E-BB84EA2C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F01F7-5F93-4DC7-AEA6-F2041172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DCA7D-56E6-4397-8B6B-D818130B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4D9-DEFA-49B4-ACE3-7101788B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D70C3-4BC4-42DF-A1EA-7C566869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229AA-F6AB-4D9A-BB01-37F3BDE2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79C65-03B1-4FD8-9C42-99A25710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BFDFF-283D-4768-A57E-BCEAEB02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EE3CA-D4BA-4ACA-B439-BEA12685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68E-7FA5-4533-B2A1-B72BA415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3D9A-0222-4951-9793-92504DE8D320}" type="slidenum">
              <a:rPr b="0" lang="tr-T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C26B-6C43-4BA4-881C-C89D99693DC3}" type="slidenum">
              <a:rPr b="0" lang="tr-T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7273-593C-43E6-8F9A-80AE218C3A13}" type="slidenum">
              <a:rPr b="0" lang="tr-T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9834-84AE-4112-BB63-99E31562A5E8}" type="slidenum">
              <a:rPr b="0" lang="tr-T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883F-3892-4E1F-A59C-D8BCF30BBA79}" type="slidenum">
              <a:rPr b="0" lang="tr-T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4F58-21B9-4A9A-ACA6-A05A2D6A95C8}" type="slidenum">
              <a:rPr b="0" lang="tr-T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3F0C-87C9-4BC9-9C9A-97C38DCAF704}" type="slidenum">
              <a:rPr b="0" lang="tr-T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4"/>
          <p:cNvSpPr txBox="1"/>
          <p:nvPr/>
        </p:nvSpPr>
        <p:spPr>
          <a:xfrm>
            <a:off x="1476360" y="1341360"/>
            <a:ext cx="6264360" cy="265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SİT MAKİNALA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80ff"/>
                </a:solidFill>
                <a:latin typeface="Candara"/>
              </a:rPr>
              <a:t>kaldıraçlar </a:t>
            </a:r>
            <a:r>
              <a:rPr b="0" lang="tr-TR" sz="18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18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1800" spc="-1" strike="noStrike">
                <a:solidFill>
                  <a:srgbClr val="0080ff"/>
                </a:solidFill>
                <a:latin typeface="Candara"/>
              </a:rPr>
              <a:t>                  makaralar,                                          palangalar,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>
                <a:solidFill>
                  <a:srgbClr val="0080ff"/>
                </a:solidFill>
                <a:latin typeface="Candara"/>
              </a:rPr>
              <a:t>https://atirnakli.files.wordpress.com/2011/03/kasnak.jpg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80ff"/>
                </a:solidFill>
                <a:latin typeface="Candara"/>
              </a:rPr>
              <a:t>ÇIKRIK                  vida              DİŞLİ ÇARK        KASNAK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Dikdörtgen 1"/>
          <p:cNvSpPr/>
          <p:nvPr/>
        </p:nvSpPr>
        <p:spPr>
          <a:xfrm>
            <a:off x="1403280" y="352440"/>
            <a:ext cx="61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Başlıca basit makineler şunlardır;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324000" y="1798560"/>
            <a:ext cx="3024000" cy="1917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2"/>
          <a:stretch/>
        </p:blipFill>
        <p:spPr>
          <a:xfrm>
            <a:off x="3348000" y="1793880"/>
            <a:ext cx="2879640" cy="2205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"/>
          <p:cNvPicPr/>
          <p:nvPr/>
        </p:nvPicPr>
        <p:blipFill>
          <a:blip r:embed="rId3"/>
          <a:stretch/>
        </p:blipFill>
        <p:spPr>
          <a:xfrm>
            <a:off x="6227640" y="1793880"/>
            <a:ext cx="2737080" cy="2066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9" descr=""/>
          <p:cNvPicPr/>
          <p:nvPr/>
        </p:nvPicPr>
        <p:blipFill>
          <a:blip r:embed="rId4"/>
          <a:stretch/>
        </p:blipFill>
        <p:spPr>
          <a:xfrm>
            <a:off x="324000" y="4437000"/>
            <a:ext cx="1944360" cy="1656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"/>
          <p:cNvPicPr/>
          <p:nvPr/>
        </p:nvPicPr>
        <p:blipFill>
          <a:blip r:embed="rId5"/>
          <a:stretch/>
        </p:blipFill>
        <p:spPr>
          <a:xfrm>
            <a:off x="2362320" y="4365720"/>
            <a:ext cx="1971720" cy="1727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1" descr=""/>
          <p:cNvPicPr/>
          <p:nvPr/>
        </p:nvPicPr>
        <p:blipFill>
          <a:blip r:embed="rId6"/>
          <a:stretch/>
        </p:blipFill>
        <p:spPr>
          <a:xfrm>
            <a:off x="4464000" y="4327560"/>
            <a:ext cx="2087640" cy="1765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"/>
          <p:cNvPicPr/>
          <p:nvPr/>
        </p:nvPicPr>
        <p:blipFill>
          <a:blip r:embed="rId7"/>
          <a:stretch/>
        </p:blipFill>
        <p:spPr>
          <a:xfrm>
            <a:off x="6551640" y="4327560"/>
            <a:ext cx="2592360" cy="1765440"/>
          </a:xfrm>
          <a:prstGeom prst="rect">
            <a:avLst/>
          </a:prstGeom>
          <a:ln w="0">
            <a:noFill/>
          </a:ln>
        </p:spPr>
      </p:pic>
      <p:sp>
        <p:nvSpPr>
          <p:cNvPr id="372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Bir basit makinada kuvvetten kazanç elde ediliyorsa aşağıdakilerden hangisi yanlıştı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Zamandan kayıp vardı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Enerjiden kayıp vardı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Yoldan kayıp vardı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Büyük kuvvet kullanılarak,küçük kuvvet elde edil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Candara"/>
              </a:rPr>
              <a:t>ÖRNEK:1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5" name="Altbilgi Yer Tutucusu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073e87"/>
                </a:solidFill>
                <a:latin typeface="Candara"/>
              </a:rPr>
              <a:t>B</a:t>
            </a:r>
            <a:endParaRPr b="0" lang="en-US" sz="8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Candara"/>
              </a:rPr>
              <a:t>CEVAP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Candara"/>
              </a:rPr>
              <a:t>ÖRNEK2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2663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250920" y="2857680"/>
            <a:ext cx="8424720" cy="1574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3"/>
          <a:stretch/>
        </p:blipFill>
        <p:spPr>
          <a:xfrm>
            <a:off x="1258920" y="4489560"/>
            <a:ext cx="6697800" cy="1514520"/>
          </a:xfrm>
          <a:prstGeom prst="rect">
            <a:avLst/>
          </a:prstGeom>
          <a:ln w="0">
            <a:noFill/>
          </a:ln>
        </p:spPr>
      </p:pic>
      <p:sp>
        <p:nvSpPr>
          <p:cNvPr id="383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600" spc="-1" strike="noStrike">
                <a:solidFill>
                  <a:srgbClr val="073e87"/>
                </a:solidFill>
                <a:latin typeface="Candara"/>
              </a:rPr>
              <a:t>C</a:t>
            </a:r>
            <a:endParaRPr b="0" lang="en-US" sz="6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Candara"/>
              </a:rPr>
              <a:t>CEVAP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24000" y="1989000"/>
            <a:ext cx="864072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Sabit bir destek etrafında hareket edebilen sağlam çubuklara </a:t>
            </a:r>
            <a:r>
              <a:rPr b="1" lang="tr-TR" sz="3600" spc="-1" strike="noStrike">
                <a:solidFill>
                  <a:srgbClr val="ff0000"/>
                </a:solidFill>
                <a:latin typeface="Candara"/>
              </a:rPr>
              <a:t>kaldıraç</a:t>
            </a:r>
            <a:r>
              <a:rPr b="1" lang="tr-TR" sz="3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denir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Candara"/>
              </a:rPr>
              <a:t>KALDIRAÇLAR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547640" y="3244680"/>
            <a:ext cx="5688360" cy="3095640"/>
          </a:xfrm>
          <a:prstGeom prst="rect">
            <a:avLst/>
          </a:prstGeom>
          <a:ln w="0">
            <a:noFill/>
          </a:ln>
        </p:spPr>
      </p:pic>
      <p:sp>
        <p:nvSpPr>
          <p:cNvPr id="390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244944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5"/>
          <p:cNvSpPr/>
          <p:nvPr/>
        </p:nvSpPr>
        <p:spPr>
          <a:xfrm>
            <a:off x="611280" y="2708280"/>
            <a:ext cx="813744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80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ldıracın etrafında döndüğü noktaya </a:t>
            </a:r>
            <a:r>
              <a:rPr b="1" lang="tr-TR" sz="2800" spc="-1" strike="noStrike">
                <a:solidFill>
                  <a:srgbClr val="ff0000"/>
                </a:solidFill>
                <a:latin typeface="Arial"/>
              </a:rPr>
              <a:t>destek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enir.(O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ygulanan kuvvetin destek noktasına olan uzaklığa </a:t>
            </a:r>
            <a:r>
              <a:rPr b="1" lang="tr-TR" sz="2800" spc="-1" strike="noStrike">
                <a:solidFill>
                  <a:srgbClr val="ff0000"/>
                </a:solidFill>
                <a:latin typeface="Arial"/>
              </a:rPr>
              <a:t>kuvvet kolu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, (AO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ük ile destek arasındaki uzaklığa </a:t>
            </a:r>
            <a:r>
              <a:rPr b="1" lang="tr-TR" sz="2800" spc="-1" strike="noStrike">
                <a:solidFill>
                  <a:srgbClr val="ff0000"/>
                </a:solidFill>
                <a:latin typeface="Arial"/>
              </a:rPr>
              <a:t>yük kolu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enir. (BO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3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80ff"/>
                </a:solidFill>
                <a:latin typeface="Candara"/>
              </a:rPr>
              <a:t>	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Candara"/>
              </a:rPr>
              <a:t>Şekildeki gibi denge durumundaki bir kaldıraçta kuvvetle kuvvet kolunun çarpımı, yükle yük kolunun çarpımına eşittir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4176720"/>
          </a:xfrm>
          <a:prstGeom prst="rect">
            <a:avLst/>
          </a:prstGeom>
          <a:ln w="0">
            <a:noFill/>
          </a:ln>
        </p:spPr>
      </p:pic>
      <p:sp>
        <p:nvSpPr>
          <p:cNvPr id="396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640720" cy="3384360"/>
          </a:xfrm>
          <a:prstGeom prst="rect">
            <a:avLst/>
          </a:prstGeom>
          <a:ln w="0">
            <a:noFill/>
          </a:ln>
        </p:spPr>
      </p:pic>
      <p:sp>
        <p:nvSpPr>
          <p:cNvPr id="398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Ağırlığı 120 N olan yük ağırlığı önemsiz bir kaldıraç çubuğu ile şekildeki gibi kaldırılıyor. Buna göre kuvvetin değeri en az kaç N olmalıdı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ÖRNE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1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2" name="Picture 4" descr=""/>
          <p:cNvPicPr/>
          <p:nvPr/>
        </p:nvPicPr>
        <p:blipFill>
          <a:blip r:embed="rId1"/>
          <a:stretch/>
        </p:blipFill>
        <p:spPr>
          <a:xfrm>
            <a:off x="2411280" y="182520"/>
            <a:ext cx="6732720" cy="3317760"/>
          </a:xfrm>
          <a:prstGeom prst="rect">
            <a:avLst/>
          </a:prstGeom>
          <a:ln w="0">
            <a:noFill/>
          </a:ln>
        </p:spPr>
      </p:pic>
      <p:sp>
        <p:nvSpPr>
          <p:cNvPr id="403" name="Metin kutusu 5"/>
          <p:cNvSpPr/>
          <p:nvPr/>
        </p:nvSpPr>
        <p:spPr>
          <a:xfrm>
            <a:off x="6084720" y="1052640"/>
            <a:ext cx="7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Garamond"/>
              </a:rPr>
              <a:t>2 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Metin kutusu 6"/>
          <p:cNvSpPr/>
          <p:nvPr/>
        </p:nvSpPr>
        <p:spPr>
          <a:xfrm>
            <a:off x="4140360" y="2046240"/>
            <a:ext cx="57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Garamond"/>
              </a:rPr>
              <a:t>1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420640"/>
            <a:ext cx="7408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8.2.1.1. Basit makinelere örnekler verir ve sağladığı avantajları örneklerle açıkla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a. Basit makinelerden, sabit makara, hareketli makara, palanga, kaldıraç, eğik düzlem ve çıkrık üzerinde durulu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b. Dişli çarklar, vida ve kasnakların da birer basit makine olduğu belirtil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c. Basit makinelerde işten kazanç olmadığı vurgulanı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KAZANIMLAR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ÇÖZÜM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ndara"/>
              </a:rPr>
              <a:t>KuvvetX Kuvvet kolu= YükX Yük kolu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ndara"/>
              </a:rPr>
              <a:t>KuvvetX2=120X1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ndara"/>
              </a:rPr>
              <a:t>Kuvvet= 60N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4963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0" y="2674440"/>
            <a:ext cx="90360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. 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Kuvvet kolunun uzunluğu, yük kolumum uzunluğuna eşit yada küçük ise kuvvetten kazanç sağlanmaz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NO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1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496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24000" y="1773000"/>
            <a:ext cx="84960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Arial"/>
              </a:rPr>
              <a:t>	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Bir kaldıraçta kuvvet kolu, yük kolundan ne kadar uzun olursa, bu kaldıraçla kaldırılabilecek yük de o kadar büyük olur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Arial"/>
              </a:rPr>
              <a:t>NOT: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8964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ÖRNE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108000" y="1247760"/>
            <a:ext cx="9036000" cy="5421240"/>
          </a:xfrm>
          <a:prstGeom prst="rect">
            <a:avLst/>
          </a:prstGeom>
          <a:ln w="0">
            <a:noFill/>
          </a:ln>
        </p:spPr>
      </p:pic>
      <p:sp>
        <p:nvSpPr>
          <p:cNvPr id="419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ÇÖZÜM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35344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826560" y="1915920"/>
            <a:ext cx="7409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tr-TR" sz="3600" spc="-1" strike="noStrike">
                <a:solidFill>
                  <a:srgbClr val="00b0f0"/>
                </a:solidFill>
                <a:latin typeface="Candara"/>
              </a:rPr>
              <a:t>Üç tip kaldıraç vardır.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I. tip kaldıraç: Destek noktası ortada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II. tip kaldıraç: Kuvvet ortada ise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III. tip kaldıraç: Yük ortada ise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KALDIRAÇ ÇEŞİTLER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3200" spc="-1" strike="noStrike">
                <a:solidFill>
                  <a:srgbClr val="0080ff"/>
                </a:solidFill>
                <a:latin typeface="Candara"/>
              </a:rPr>
              <a:t>Kaldıraçlar, destek noktasının bulunduğu yere göre;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80ff"/>
                </a:solidFill>
                <a:latin typeface="Candara"/>
              </a:rPr>
              <a:t>çift taraflı ve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80ff"/>
                </a:solidFill>
                <a:latin typeface="Candara"/>
              </a:rPr>
              <a:t>tek taraflı kaldıraç olmak üzere iki gruba ayrılır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VEY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7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Candara"/>
              </a:rPr>
              <a:t>I. tip kaldıraç: Destek noktası ortada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207280" cy="1476360"/>
          </a:xfrm>
          <a:prstGeom prst="rect">
            <a:avLst/>
          </a:prstGeom>
          <a:ln w="0">
            <a:noFill/>
          </a:ln>
        </p:spPr>
      </p:pic>
      <p:sp>
        <p:nvSpPr>
          <p:cNvPr id="431" name="Dikdörtgen 4"/>
          <p:cNvSpPr/>
          <p:nvPr/>
        </p:nvSpPr>
        <p:spPr>
          <a:xfrm>
            <a:off x="1042920" y="4221000"/>
            <a:ext cx="748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80ff"/>
                </a:solidFill>
                <a:latin typeface="Garamond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Garamond"/>
              </a:rPr>
              <a:t>Desteğin ortada olduğu kaldıraçlara denir. Kuvvetin yönünü değiştirir, </a:t>
            </a:r>
            <a:r>
              <a:rPr b="0" lang="tr-TR" sz="3200" spc="-1" strike="noStrike">
                <a:solidFill>
                  <a:srgbClr val="ff0000"/>
                </a:solidFill>
                <a:latin typeface="Garamond"/>
              </a:rPr>
              <a:t>kuvvetten kazanç sağlar. Yoldan kayıp vardır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539640" y="169992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Örneğin makas, pense, eşit kollu terazi, levye, kayık küreği, </a:t>
            </a:r>
            <a:r>
              <a:rPr b="1" lang="sv-SE" sz="2400" spc="-1" strike="noStrike">
                <a:solidFill>
                  <a:srgbClr val="000000"/>
                </a:solidFill>
                <a:latin typeface="Candara"/>
              </a:rPr>
              <a:t>pense, kriko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, tahterevalli desteğin ortada olduğu kaldıraca benzer araçlardır.</a:t>
            </a:r>
            <a:r>
              <a:rPr b="1" lang="sv-SE" sz="24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3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8137440" cy="3887640"/>
          </a:xfrm>
          <a:prstGeom prst="rect">
            <a:avLst/>
          </a:prstGeom>
          <a:ln w="0">
            <a:noFill/>
          </a:ln>
        </p:spPr>
      </p:pic>
      <p:sp>
        <p:nvSpPr>
          <p:cNvPr id="435" name="Dikdörtgen 1"/>
          <p:cNvSpPr/>
          <p:nvPr/>
        </p:nvSpPr>
        <p:spPr>
          <a:xfrm>
            <a:off x="395280" y="692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Garamond"/>
              </a:rPr>
              <a:t>GÜNLÜK HAYATTA KULLANIM ALANLARI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68360" y="340632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Candara"/>
              </a:rPr>
              <a:t>Desteğin uçta, kuvvetin ortada olduğu kaldıraç. </a:t>
            </a:r>
            <a:r>
              <a:rPr b="0" lang="tr-TR" sz="3200" spc="-1" strike="noStrike">
                <a:solidFill>
                  <a:srgbClr val="ff0000"/>
                </a:solidFill>
                <a:latin typeface="Candara"/>
              </a:rPr>
              <a:t>Yoldan kazanç, kuvvetten kayıp vardır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II. tip kaldıraç: Kuvvet ortada ise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8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854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8.2.1.2. Basit makinelerin günlük yaşamdaki kullanım alanlarına örnekler ver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8.2.1.3. Basit makinelerden yararlanarak günlük yaşamda iş kolaylığı sağlayacak bir düzenek tasarlar ve yapa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KAZANIMLAR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50560" y="1557000"/>
            <a:ext cx="8713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el zımba, maşa, cımbız, iş makinelerinin pistonla çalışan kolları, ön kollarımız… </a:t>
            </a: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örnek olarak verilebilir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Candara"/>
              </a:rPr>
              <a:t>GÜNLÜK HAYATTA KULLANIM ALANLARI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43" name="Picture 4" descr=""/>
          <p:cNvPicPr/>
          <p:nvPr/>
        </p:nvPicPr>
        <p:blipFill>
          <a:blip r:embed="rId1"/>
          <a:stretch/>
        </p:blipFill>
        <p:spPr>
          <a:xfrm>
            <a:off x="250920" y="3213000"/>
            <a:ext cx="8497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216000" y="3141360"/>
            <a:ext cx="87120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Candara"/>
              </a:rPr>
              <a:t>Desteğin uçta, yükün ortada olduğu kaldıraç. </a:t>
            </a:r>
            <a:r>
              <a:rPr b="0" lang="tr-TR" sz="3200" spc="-1" strike="noStrike">
                <a:solidFill>
                  <a:srgbClr val="ff0000"/>
                </a:solidFill>
                <a:latin typeface="Candara"/>
              </a:rPr>
              <a:t>Kuvvetten kazanç, yoldan kayıp vardır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III. tip kaldıraç: Yük ortada ise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250920" y="1752480"/>
            <a:ext cx="8785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50560" y="1699920"/>
            <a:ext cx="85690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Desteğin uçta, yükün ortada olduğu kaldıraçlara örnekler; el arabası, fındık kıracağı, gazoz açacağı, çenemiz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Candara"/>
              </a:rPr>
              <a:t>GÜNLÜK HAYATTA KULLANIM ALANLARI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0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8642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24000" y="1600200"/>
            <a:ext cx="8820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1" lang="tr-TR" sz="3600" spc="-1" strike="noStrike">
                <a:solidFill>
                  <a:srgbClr val="000000"/>
                </a:solidFill>
                <a:latin typeface="Candara"/>
              </a:rPr>
              <a:t>Basit makinelerde kuvvet kazancı, yükün kuvvete oranı olarak ifade edilir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80ff"/>
                </a:solidFill>
                <a:latin typeface="Candara"/>
              </a:rPr>
              <a:t>   </a:t>
            </a:r>
            <a:r>
              <a:rPr b="1" lang="tr-TR" sz="3600" spc="-1" strike="noStrike">
                <a:solidFill>
                  <a:srgbClr val="0080ff"/>
                </a:solidFill>
                <a:latin typeface="Candara"/>
              </a:rPr>
              <a:t>yük x yük kolu = kuvvet x kuvvet kolu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80ff"/>
                </a:solidFill>
                <a:latin typeface="Candara"/>
              </a:rPr>
              <a:t>       </a:t>
            </a:r>
            <a:r>
              <a:rPr b="1" lang="tr-TR" sz="3600" spc="-1" strike="noStrike">
                <a:solidFill>
                  <a:srgbClr val="0080ff"/>
                </a:solidFill>
                <a:latin typeface="Candara"/>
              </a:rPr>
              <a:t>yazılabilir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3399"/>
                </a:solidFill>
                <a:latin typeface="Candara"/>
              </a:rPr>
              <a:t>Kuvvet kazancı = Yük  / Kuvvet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3399"/>
                </a:solidFill>
                <a:latin typeface="Candara"/>
              </a:rPr>
              <a:t>Kuvvet kazancı = Yük kolu / Kuvvet kolu</a:t>
            </a:r>
            <a:r>
              <a:rPr b="0" lang="tr-TR" sz="2800" spc="-1" strike="noStrike">
                <a:solidFill>
                  <a:srgbClr val="ff3399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KUVVET KAZANC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Candara"/>
              </a:rPr>
              <a:t>ÖRNE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569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ÇÖZÜM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8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59" name="Picture 3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79930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Şekildeki düzenekte yükü dengeleyen kuvvet kaç N’du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99"/>
                </a:solidFill>
                <a:latin typeface="Candara"/>
              </a:rPr>
              <a:t>ÖRNE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2" name="Picture 4" descr=""/>
          <p:cNvPicPr/>
          <p:nvPr/>
        </p:nvPicPr>
        <p:blipFill>
          <a:blip r:embed="rId1"/>
          <a:stretch/>
        </p:blipFill>
        <p:spPr>
          <a:xfrm>
            <a:off x="15840" y="3500280"/>
            <a:ext cx="8948880" cy="2664000"/>
          </a:xfrm>
          <a:prstGeom prst="rect">
            <a:avLst/>
          </a:prstGeom>
          <a:ln w="0">
            <a:noFill/>
          </a:ln>
        </p:spPr>
      </p:pic>
      <p:sp>
        <p:nvSpPr>
          <p:cNvPr id="463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Candara"/>
              </a:rPr>
              <a:t>Aşağıdaki sistemleri dengeye getirmek için okla gösterilen noktalara kuvvetler uygulanmaktadır</a:t>
            </a:r>
            <a:r>
              <a:rPr b="1" lang="tr-TR" sz="2800" spc="-1" strike="noStrike">
                <a:solidFill>
                  <a:srgbClr val="0080ff"/>
                </a:solidFill>
                <a:latin typeface="Candara"/>
              </a:rPr>
              <a:t>. </a:t>
            </a:r>
            <a:r>
              <a:rPr b="1" lang="tr-TR" sz="2800" spc="-1" strike="noStrike">
                <a:solidFill>
                  <a:srgbClr val="000000"/>
                </a:solidFill>
                <a:latin typeface="Candara"/>
              </a:rPr>
              <a:t>Hangi kuvvet en büyüktür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99"/>
                </a:solidFill>
                <a:latin typeface="Candara"/>
              </a:rPr>
              <a:t>ÖRNEK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813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250560" y="11970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Şekildeki gibi eşit bölmelendirilmiş homojen bir çubuk,bir iple tavana asılarak dengelenmişt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Çubuğun ağırlığı 50 N olduğuna göre, ipteki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gerilme kaç N’du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99"/>
                </a:solidFill>
                <a:latin typeface="Candara"/>
              </a:rPr>
              <a:t>ÖRNEK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71" name="Picture 4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5472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Üzerinde ipin geçebileceği oluk bulunan, sabit bir eksen etrafında serbestçe dönebilen disk şeklinde bir araçtı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Makaralar, kullanış şekline göre </a:t>
            </a:r>
            <a:r>
              <a:rPr b="1" lang="tr-TR" sz="2400" spc="-1" strike="noStrike">
                <a:solidFill>
                  <a:srgbClr val="ff0000"/>
                </a:solidFill>
                <a:latin typeface="Candara"/>
              </a:rPr>
              <a:t>sabit ve hareketli 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olmak üzere iki çeşitt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3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3399"/>
                </a:solidFill>
                <a:latin typeface="Candara"/>
              </a:rPr>
              <a:t>MAKARALA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75" name="Picture 5" descr=""/>
          <p:cNvPicPr/>
          <p:nvPr/>
        </p:nvPicPr>
        <p:blipFill>
          <a:blip r:embed="rId1"/>
          <a:stretch/>
        </p:blipFill>
        <p:spPr>
          <a:xfrm>
            <a:off x="971640" y="4149720"/>
            <a:ext cx="64800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95280" y="184464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Günlük yaşantımızda işlerimizi kolaylaştırmak için kullandığımız, bir ya da iki parçadan oluşan araçlara </a:t>
            </a:r>
            <a:r>
              <a:rPr b="1" lang="tr-TR" sz="3600" spc="-1" strike="noStrike">
                <a:solidFill>
                  <a:srgbClr val="ff0000"/>
                </a:solidFill>
                <a:latin typeface="Candara"/>
              </a:rPr>
              <a:t>basit makineler</a:t>
            </a:r>
            <a:r>
              <a:rPr b="1" lang="tr-TR" sz="3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denir.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Candara"/>
              </a:rPr>
              <a:t> </a:t>
            </a:r>
            <a:r>
              <a:rPr b="0" lang="tr-TR" sz="3600" spc="-1" strike="noStrike">
                <a:solidFill>
                  <a:srgbClr val="ff3399"/>
                </a:solidFill>
                <a:latin typeface="Candara"/>
              </a:rPr>
              <a:t>Basit Makineler Yaşamımızı Kolaylaştırır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81360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68360" y="1988640"/>
            <a:ext cx="842472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Dönme ekseni bir yere sabitlenmiş makaradır. İp makara üzerinden geçirilir ve ucuna yük asılır. İp diğer ucundan çekilince yük kaldırılır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tr-TR" sz="4400" spc="-1" strike="noStrike">
                <a:solidFill>
                  <a:srgbClr val="ff3399"/>
                </a:solidFill>
                <a:latin typeface="Tahoma"/>
                <a:ea typeface="Tahoma"/>
              </a:rPr>
              <a:t>1. Sabit Makara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79" name="Picture 5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1552320" cy="22669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6" descr=""/>
          <p:cNvPicPr/>
          <p:nvPr/>
        </p:nvPicPr>
        <p:blipFill>
          <a:blip r:embed="rId2"/>
          <a:stretch/>
        </p:blipFill>
        <p:spPr>
          <a:xfrm>
            <a:off x="3205080" y="3213000"/>
            <a:ext cx="4030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468000" y="1628280"/>
            <a:ext cx="8064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Sadece kuvvetin yönünü değiştirir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Kuvvetten ya da yoldan kazanç sağlamaz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Sürtünmeler ihmal edilirse kuvvet, yüke eşitt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İpin çekilme miktarı, yükün yükselme miktarına eşitt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Candara"/>
              </a:rPr>
              <a:t>Sabit makara;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3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tretch/>
        </p:blipFill>
        <p:spPr>
          <a:xfrm>
            <a:off x="2556000" y="3933720"/>
            <a:ext cx="4537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900000" y="227664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Candara"/>
              </a:rPr>
              <a:t>Hem kendi çevresinde dönebilen hem de yüke bağlı olduğu için yükle beraber hareket edebilen makaradı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3399"/>
                </a:solidFill>
                <a:latin typeface="Candara"/>
              </a:rPr>
              <a:t>2. Hareketli Maka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87" name="Picture 5" descr=""/>
          <p:cNvPicPr/>
          <p:nvPr/>
        </p:nvPicPr>
        <p:blipFill>
          <a:blip r:embed="rId1"/>
          <a:stretch/>
        </p:blipFill>
        <p:spPr>
          <a:xfrm>
            <a:off x="2987640" y="3668760"/>
            <a:ext cx="28083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611280" y="2492280"/>
            <a:ext cx="740880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Tahoma"/>
                <a:ea typeface="Tahoma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Sürtünmeler ihmal edilirse, hareketli makarada kuvvet yükün yarısına eşitt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Tahoma"/>
                <a:ea typeface="Tahoma"/>
              </a:rPr>
              <a:t>F=P/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0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2990880" y="3429000"/>
            <a:ext cx="2808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68360" y="256500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Buna göre kuvvetten 2 kat kazanç vardı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Bu durumda da yoldan 2 kat kayıp vardır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ndara"/>
              </a:rPr>
              <a:t>NOT: 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Yükün 1 m yükselebilmesi için ipin 2 metre çekilmesi gerekmektedir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Candara"/>
              </a:rPr>
              <a:t>KUVVET KAZANC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6948360" y="2349360"/>
            <a:ext cx="189576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826560" y="2565360"/>
            <a:ext cx="740916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Şekildeki sistemde 400 N’luk kuvvetle kaç N’luk yük dengelenebili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99"/>
                </a:solidFill>
                <a:latin typeface="Candara"/>
              </a:rPr>
              <a:t>ÖRNEK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tretch/>
        </p:blipFill>
        <p:spPr>
          <a:xfrm>
            <a:off x="4643280" y="3068640"/>
            <a:ext cx="3529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Şekildeki sistemde, 10 N’luk P yükünü dengeleyen F kuvveti kaç N’dur? (Ipin ve makaranın ağırlığı ile sürtünme ihmal edilecek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1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99"/>
                </a:solidFill>
                <a:latin typeface="Candara"/>
              </a:rPr>
              <a:t>ÖRNEK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03" name="Picture 6" descr=""/>
          <p:cNvPicPr/>
          <p:nvPr/>
        </p:nvPicPr>
        <p:blipFill>
          <a:blip r:embed="rId1"/>
          <a:stretch/>
        </p:blipFill>
        <p:spPr>
          <a:xfrm>
            <a:off x="2771640" y="3141720"/>
            <a:ext cx="3024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Yandaki hareketli makarayı bağlı yük 5 metre yukarı çekilmek isteniyor. Buna göre ip kaç metre yukarı çekilmeli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ÖRNE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6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5796000" y="3645000"/>
            <a:ext cx="3024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ÖRNE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09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ÖRNE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585000" indent="-585000" algn="ctr"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AVANTAJLARI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585000" indent="-585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585000" indent="-585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585000" indent="-585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585000" indent="-585000">
              <a:spcBef>
                <a:spcPts val="70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80ff"/>
                </a:solidFill>
                <a:latin typeface="Candara"/>
              </a:rPr>
              <a:t>İş kolaylığı sağlar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85000" indent="-585000">
              <a:spcBef>
                <a:spcPts val="70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Candara"/>
              </a:rPr>
              <a:t>Basit makineler, iş den bir kazanç sağlamazlar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85000" indent="-585000">
              <a:spcBef>
                <a:spcPts val="70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80ff"/>
                </a:solidFill>
                <a:latin typeface="Candara"/>
              </a:rPr>
              <a:t>Sürtünmeleri ihmal ettiğimizde, basit makineyle yapılan iş, yükün kazandığı enerjiye eşittir. </a:t>
            </a:r>
            <a:r>
              <a:rPr b="0" lang="tr-TR" sz="2800" spc="-1" strike="noStrike">
                <a:solidFill>
                  <a:srgbClr val="ff0000"/>
                </a:solidFill>
                <a:latin typeface="Candara"/>
              </a:rPr>
              <a:t>(Enerji den kazanç sağlamaz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85000" indent="-585000">
              <a:spcBef>
                <a:spcPts val="70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Candara"/>
              </a:rPr>
              <a:t>Büyük ağırlıkları kaldırmak için kullanılır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611280" y="169992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Tahoma"/>
                <a:ea typeface="Tahoma"/>
              </a:rPr>
              <a:t>Şekildeki makara düzeneği dengededir. Makaraların her birinin ağırlığı 2 N olduğuna göre F kuvveti kaç N’ dur ? ( Sürtünme yok 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A ) 4                   B ) 5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C ) 6                   D ) 7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ÖRNE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237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r-TR" sz="3600" spc="-1" strike="noStrike">
                <a:solidFill>
                  <a:srgbClr val="000000"/>
                </a:solidFill>
                <a:latin typeface="Tahoma"/>
                <a:ea typeface="Tahoma"/>
              </a:rPr>
              <a:t>Sabit ve hareketli makaraların birlikte kullanılmasıyla oluşturulmuş sisteme </a:t>
            </a:r>
            <a:r>
              <a:rPr b="0" lang="tr-TR" sz="3600" spc="-1" strike="noStrike">
                <a:solidFill>
                  <a:srgbClr val="ff0000"/>
                </a:solidFill>
                <a:latin typeface="Tahoma"/>
                <a:ea typeface="Tahoma"/>
              </a:rPr>
              <a:t>palanga</a:t>
            </a:r>
            <a:r>
              <a:rPr b="0" lang="tr-TR" sz="3600" spc="-1" strike="noStrike">
                <a:solidFill>
                  <a:srgbClr val="000000"/>
                </a:solidFill>
                <a:latin typeface="Tahoma"/>
                <a:ea typeface="Tahoma"/>
              </a:rPr>
              <a:t> denir. Palangada kuvvetten büyük oranda kazanç vardır. Fakat aynı oranda yoldan kayıp vardır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3399"/>
                </a:solidFill>
                <a:latin typeface="Candara"/>
              </a:rPr>
              <a:t>PALANGALAR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064360" cy="4535280"/>
          </a:xfrm>
          <a:prstGeom prst="rect">
            <a:avLst/>
          </a:prstGeom>
          <a:ln w="0">
            <a:noFill/>
          </a:ln>
        </p:spPr>
      </p:pic>
      <p:sp>
        <p:nvSpPr>
          <p:cNvPr id="522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4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345440" cy="403236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"/>
          <p:cNvSpPr/>
          <p:nvPr/>
        </p:nvSpPr>
        <p:spPr>
          <a:xfrm>
            <a:off x="4932360" y="2492280"/>
            <a:ext cx="3672000" cy="388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0000"/>
                </a:solidFill>
                <a:latin typeface="Tahoma"/>
                <a:ea typeface="Tahoma"/>
              </a:rPr>
              <a:t>UYARI :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  <a:ea typeface="Tahoma"/>
              </a:rPr>
              <a:t>1 – Bütün makara ve palangalarda iplerin birbirine paralel olması gerekir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  <a:ea typeface="Tahoma"/>
              </a:rPr>
              <a:t>2 – Palanga ile ilgili problemlerde, makaraların ağırlığı hesaba katılacaksa, yalnızca hareketli olan makaraların ağırlıkları hesaba katılır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  <a:ea typeface="Tahoma"/>
              </a:rPr>
              <a:t>Sabit makaralar bir yere asılı olduğu için ağırlıkları dikkate alınmaz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  <a:ea typeface="Tahoma"/>
              </a:rPr>
              <a:t>3 – Palangalarda kuvvetten kaç kat kazanç sağlanırsa, yoldan da o oranda kaybedilir.  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755640" y="2565000"/>
            <a:ext cx="7408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ndara"/>
              </a:rPr>
              <a:t>KUVVET KAZANCI= YÜK AĞIRLIĞI/DENGELEYİCİ KUVVE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0000"/>
                </a:solidFill>
                <a:latin typeface="Candara"/>
              </a:rPr>
              <a:t>İPİN ÇEKİLME MİKTARI = (İp sayısı)x Yükün Yükselme Miktarı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Candara"/>
              </a:rPr>
              <a:t>PALANGALARDA KUVVET KAZANCI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250560" y="2060280"/>
            <a:ext cx="5040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Şekildeki sistemde makaralar ağırlıksızdır. Sistem sürtünmesizd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Yükü dengeleyen kuvvet kaç N’du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b. Yükü 10 m kaldırmak için ip kaç m çekilmelidi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c. Kuvvet kazancı nedi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1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3399"/>
                </a:solidFill>
                <a:latin typeface="Candara"/>
              </a:rPr>
              <a:t>ÖRNEK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6084720" y="981000"/>
            <a:ext cx="266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250560" y="2060280"/>
            <a:ext cx="5040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Şekildeki sistemde makaralar ağırlıksızdır. Sistem sürtünmesizd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Yükü dengeleyen kuvvet kaç N’du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Aşağı yönlü olduğu içi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  <a:ea typeface="Tahoma"/>
              </a:rPr>
              <a:t>Dengeleyici kuvvet: Yük/Makara sayısı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  <a:ea typeface="Tahoma"/>
              </a:rPr>
              <a:t>Dengeleyici kuvvet: p/4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3399"/>
                </a:solidFill>
                <a:latin typeface="Candara"/>
              </a:rPr>
              <a:t>CEVAP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6084720" y="981000"/>
            <a:ext cx="266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250560" y="2060280"/>
            <a:ext cx="5040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    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Şekildeki sistemde makaralar ağırlıksızdır. Sistem sürtünmesizd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ndara"/>
              </a:rPr>
              <a:t>b.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 Yükü 10 m kaldırmak için ip kaç m çekilmelidi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  <a:ea typeface="Tahoma"/>
              </a:rPr>
              <a:t>  </a:t>
            </a:r>
            <a:r>
              <a:rPr b="0" lang="tr-TR" sz="2400" spc="-1" strike="noStrike">
                <a:solidFill>
                  <a:srgbClr val="ff0000"/>
                </a:solidFill>
                <a:latin typeface="Tahoma"/>
                <a:ea typeface="Tahoma"/>
              </a:rPr>
              <a:t>İPİN ÇEKİLME MİKTARI =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  <a:ea typeface="Tahoma"/>
              </a:rPr>
              <a:t>(İp sayısı)x Yükün Yükselme Miktarı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  <a:ea typeface="Tahoma"/>
              </a:rPr>
              <a:t>İPİN ÇEKİLME MİKTARI= 4X10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  <a:ea typeface="Tahoma"/>
              </a:rPr>
              <a:t>İPİN ÇEKİLME MİKTARI= 40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tr-TR" sz="3600" spc="-1" strike="noStrike">
                <a:solidFill>
                  <a:srgbClr val="ff3399"/>
                </a:solidFill>
                <a:latin typeface="Candara"/>
              </a:rPr>
              <a:t>CEVAP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6084720" y="981000"/>
            <a:ext cx="266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250920" y="2060280"/>
            <a:ext cx="6192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    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Şekildeki sistemde makaralar ağırlıksızdır. Sistem sürtünmesizd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c. Kuvvet kazancı nedi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0000"/>
                </a:solidFill>
                <a:latin typeface="Candara"/>
              </a:rPr>
              <a:t>KUVVET KAZANCI= YÜK AĞIRLIĞI/DENGELEYİCİ KUVVET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0000"/>
                </a:solidFill>
                <a:latin typeface="Candara"/>
              </a:rPr>
              <a:t>KUVVET KAZANCI= P/P/4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ndara"/>
              </a:rPr>
              <a:t>KUVVET KAZANCI= Px 4/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ndara"/>
              </a:rPr>
              <a:t>KUVVET KAZANCI= 4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3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3399"/>
                </a:solidFill>
                <a:latin typeface="Candara"/>
              </a:rPr>
              <a:t>CEVAP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6084720" y="981000"/>
            <a:ext cx="266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826560" y="249192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Makaralar ve palangalar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 </a:t>
            </a: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iş makinelerinde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 </a:t>
            </a: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gemilerde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  </a:t>
            </a: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yük kaldırma makinelerinde kullanılı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  </a:t>
            </a: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Bayrak direğinin üst tarafında sabit makara bulunu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   </a:t>
            </a: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İnşaatlard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       </a:t>
            </a:r>
            <a:r>
              <a:rPr b="1" lang="tr-TR" sz="2400" spc="-1" strike="noStrike">
                <a:solidFill>
                  <a:srgbClr val="0080ff"/>
                </a:solidFill>
                <a:latin typeface="Candara"/>
              </a:rPr>
              <a:t>kullanılır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Candara"/>
              </a:rPr>
              <a:t>MAKARALARIN KULLANIM ALANLARINA ÖRNEKLER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8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ndara"/>
              </a:rPr>
              <a:t>Kuvvetten kazanç varsa ayni oranda yoldan kayıp olur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Candara"/>
              </a:rPr>
              <a:t>Yoldan kazanç varsa, ayni oranda kuvvetten kayıp olur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Candara"/>
              </a:rPr>
              <a:t>Basit makineler iş veya enerjiden asla kazanç sağlamaz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3399"/>
                </a:solidFill>
                <a:latin typeface="Candara"/>
              </a:rPr>
              <a:t>Basit makinelerin temel prensipleri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Merkezleri farklı olan makaralarda kuvveti birind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diğerine aktarmak için zincir ya da kayış kullanılı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Şekildeki makaralar için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büyük makaranın dönme sayısı = n</a:t>
            </a:r>
            <a:r>
              <a:rPr b="0" lang="tr-TR" sz="2400" spc="-1" strike="noStrike" baseline="-25000">
                <a:solidFill>
                  <a:srgbClr val="000000"/>
                </a:solidFill>
                <a:latin typeface="Candara"/>
              </a:rPr>
              <a:t>1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küçük makaranın dönme sayısı = n</a:t>
            </a:r>
            <a:r>
              <a:rPr b="0" lang="tr-TR" sz="24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büyük makaranın yarıçapı = r</a:t>
            </a:r>
            <a:r>
              <a:rPr b="0" lang="tr-TR" sz="2400" spc="-1" strike="noStrike" baseline="-25000">
                <a:solidFill>
                  <a:srgbClr val="000000"/>
                </a:solidFill>
                <a:latin typeface="Candara"/>
              </a:rPr>
              <a:t>1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küçük makaranın yarıçapı = r</a:t>
            </a:r>
            <a:r>
              <a:rPr b="0" lang="tr-TR" sz="24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3399"/>
                </a:solidFill>
                <a:latin typeface="Candara"/>
              </a:rPr>
              <a:t>MERKEZLERİ FARKLI OLAN MAKARALAR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568680" cy="2016000"/>
          </a:xfrm>
          <a:prstGeom prst="rect">
            <a:avLst/>
          </a:prstGeom>
          <a:ln w="0">
            <a:noFill/>
          </a:ln>
        </p:spPr>
      </p:pic>
      <p:sp>
        <p:nvSpPr>
          <p:cNvPr id="553" name="Altbilgi Yer Tutucusu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54" name="Picture 5" descr=""/>
          <p:cNvPicPr/>
          <p:nvPr/>
        </p:nvPicPr>
        <p:blipFill>
          <a:blip r:embed="rId2"/>
          <a:stretch/>
        </p:blipFill>
        <p:spPr>
          <a:xfrm>
            <a:off x="1619280" y="2565360"/>
            <a:ext cx="5977080" cy="2448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743280" cy="201600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7"/>
          <p:cNvSpPr/>
          <p:nvPr/>
        </p:nvSpPr>
        <p:spPr>
          <a:xfrm>
            <a:off x="-43560" y="5004720"/>
            <a:ext cx="923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Garamond"/>
              </a:rPr>
              <a:t>Kayışlar çapraz takılarak makaraların dönme yönler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Garamond"/>
              </a:rPr>
              <a:t>değiştirilebili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HAZIRLAYAN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AHMET AKIN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FEN BİLİMLERİ ÖĞRETMENİ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ndara"/>
              </a:rPr>
              <a:t>ŞEHİT SAMİ ÇİFTÇİ İHO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9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684000" y="1700280"/>
            <a:ext cx="7407000" cy="19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799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tr-TR" sz="3200" spc="-1" strike="noStrike">
                <a:solidFill>
                  <a:srgbClr val="000000"/>
                </a:solidFill>
                <a:latin typeface="Candara"/>
              </a:rPr>
              <a:t>kuvvetin doğrultusunu,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415800" indent="-415800">
              <a:spcBef>
                <a:spcPts val="799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ndara"/>
              </a:rPr>
              <a:t>yönünü ya da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415800" indent="-415800">
              <a:spcBef>
                <a:spcPts val="799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ndara"/>
              </a:rPr>
              <a:t>büyüklüğünü değiştirmek için kullanılır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0000"/>
                </a:solidFill>
                <a:latin typeface="Candara"/>
              </a:rPr>
              <a:t>Basit makineler;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7129800" cy="3079800"/>
          </a:xfrm>
          <a:prstGeom prst="rect">
            <a:avLst/>
          </a:prstGeom>
          <a:ln w="0">
            <a:noFill/>
          </a:ln>
        </p:spPr>
      </p:pic>
      <p:sp>
        <p:nvSpPr>
          <p:cNvPr id="355" name="Altbilgi Yer Tutucusu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79280" y="1773000"/>
            <a:ext cx="896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tr-TR" sz="3200" spc="-1" strike="noStrike">
                <a:solidFill>
                  <a:srgbClr val="ff0000"/>
                </a:solidFill>
                <a:latin typeface="Candara"/>
              </a:rPr>
              <a:t>a-)Kuvvetin Büyüklüğünü arttıran makineler: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Candara"/>
              </a:rPr>
              <a:t>Cımbız, pense, tornavida, gazoz açacağı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tr-TR" sz="3200" spc="-1" strike="noStrike">
                <a:solidFill>
                  <a:srgbClr val="ff0000"/>
                </a:solidFill>
                <a:latin typeface="Candara"/>
              </a:rPr>
              <a:t>b-)Kuvvetin yönünü değiştiren basit makineler: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Candara"/>
              </a:rPr>
              <a:t>Tahterevalli, sabit makara, kapı kolu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tr-TR" sz="3200" spc="-1" strike="noStrike">
                <a:solidFill>
                  <a:srgbClr val="ff0000"/>
                </a:solidFill>
                <a:latin typeface="Candara"/>
              </a:rPr>
              <a:t>c-)Sürat değiştiren makineler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Candara"/>
              </a:rPr>
              <a:t>El mikseri, El matkabı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Dikdörtgen 3"/>
          <p:cNvSpPr/>
          <p:nvPr/>
        </p:nvSpPr>
        <p:spPr>
          <a:xfrm>
            <a:off x="1133640" y="1155600"/>
            <a:ext cx="19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Candara"/>
              </a:rPr>
              <a:t>NOT: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Altbilgi Yer Tutucusu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08000" y="475920"/>
            <a:ext cx="864072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Bir basit makine da uygulanan kuvvete </a:t>
            </a:r>
            <a:r>
              <a:rPr b="0" lang="tr-TR" sz="2400" spc="-1" strike="noStrike">
                <a:solidFill>
                  <a:srgbClr val="ff0000"/>
                </a:solidFill>
                <a:latin typeface="Candara"/>
              </a:rPr>
              <a:t>giriş kuvveti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, makinenin çalışmasından doğan kuvvete </a:t>
            </a:r>
            <a:r>
              <a:rPr b="0" lang="tr-TR" sz="2400" spc="-1" strike="noStrike">
                <a:solidFill>
                  <a:srgbClr val="ff0000"/>
                </a:solidFill>
                <a:latin typeface="Candara"/>
              </a:rPr>
              <a:t>çıkış kuvveti</a:t>
            </a:r>
            <a:r>
              <a:rPr b="0" lang="tr-TR" sz="2400" spc="-1" strike="noStrike">
                <a:solidFill>
                  <a:srgbClr val="000000"/>
                </a:solidFill>
                <a:latin typeface="Candara"/>
              </a:rPr>
              <a:t> deni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Altbilgi Yer Tutucusu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5164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4:56:52Z</dcterms:created>
  <dc:creator>FEHMİ</dc:creator>
  <dc:description/>
  <dc:language>en-US</dc:language>
  <cp:lastModifiedBy>SEDAT HP</cp:lastModifiedBy>
  <dcterms:modified xsi:type="dcterms:W3CDTF">2016-06-25T00:56:58Z</dcterms:modified>
  <cp:revision>36</cp:revision>
  <dc:subject/>
  <dc:title>BASİT MAKİNALAR 1</dc:title>
</cp:coreProperties>
</file>