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B69-8247-46AC-B28D-75E242E7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14F-D35E-41AF-B394-9CC9CA9D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C0F-A6C5-4889-BEEA-B1966ACA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963-19C3-40F3-A3EC-A3C7AE38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01D2-0A4B-4A72-BAA9-F4E59895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D1E5-07BB-476E-A89F-A021689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9C58-FC45-4F31-81BD-9CFF5B0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5DA9-44AE-4F12-AF24-4379F8EA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5E1A-23AC-4426-98EF-875561F8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72D1-AA32-42D0-B95E-8BE3EF7F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ABB-2E13-44B6-83D1-4CF2569E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B4D-E9E7-4B4E-8657-20E711B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E35E-AF6F-42A3-B8D9-B5D91CD2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24A7-983C-4606-88B5-118CB93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3F6D-3006-4D26-B5FD-162A255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A022-6297-4E33-8D2D-BD738286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F5CC-420E-408A-A017-3F790565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FDF-2393-4714-9DDE-7459483B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95B-0996-466D-AF20-941CDEA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C29-8A6D-4E38-AC3F-06BA966E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DDC-F296-492E-B9FA-37EBCAC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D7F-DAF7-4E92-B6A5-61A30823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D34-4958-4447-9F46-ACECE8CC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D5F-13F3-4015-864A-BD3F950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4BA8-0B5D-49BE-99E3-CC57D28804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01A1-F7E8-4AB1-94A5-5AD3849831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75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34320" y="643680"/>
            <a:ext cx="7668360" cy="52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HURİYET İLKÖĞRETİM OKULU</a:t>
            </a:r>
            <a:br>
              <a:rPr sz="28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-2005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TÜM ÖĞRENCİLERİMİZE BAŞARILAR DİLERİZ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3716280"/>
            <a:ext cx="6086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7.SINIFLAR ARASI BİLGİ YARIŞMAS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eşil bitkiler fotosentez yaparken aşağıdakilerden hangisini kullanmaz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Oksijen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Karbondioksit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Güneş ışığı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Su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smanlı Beyliği hangi hükümdar döneminde beylikten devlet durumuna geçmişti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Osman Bey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Orhan Bey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I.Mura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Yıldırım Bayezıd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ygamberimizin doğum tarihi aşağıdakilerden hangisidir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20 nisan 571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27 temmuz 571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20 nisan 63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21 mart 62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tr-TR" sz="3200" spc="-1" strike="noStrike">
                <a:solidFill>
                  <a:srgbClr val="003366"/>
                </a:solidFill>
                <a:latin typeface="Arial"/>
              </a:rPr>
              <a:t>Bir diskette ya da diskte var olan dosya ve dizinleri görüntülemek için kullanılan komut hangisidi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CD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MS D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DIR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MD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3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şağıdaki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tamlama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ardan hangisinin türü diğerlerinden farklıdı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Kırmızı kazak    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İki elm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)Uzun masa         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)Bahçe kapısı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(47k38) sayısının 9 ile kalansız bölünmesi için “k” rakamı kaç olmalıdı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7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5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3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ilin uçları arasındaki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potansiyel farkı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ne ile ölçülü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Voltmetre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Ampermetre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Reosta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Üreteç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98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şağıdakilerden hangisinde iklimin etkisi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görülmez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Zirai ürün çeşidinde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Yerleşmede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Taşıma ve ulaşımda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Madenlerin dağılışınd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şağıdaki cümlelerin hangisinde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şahıs zamiri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yoktu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)Bu şiiri kendim yazdım               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)Tiyatroya sensiz gitmeyiz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)Bana bu konuda söz verdi.           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)O arkadaşımı hiç unutmam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58320" y="1254600"/>
            <a:ext cx="76831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ir ayakkabı 220 000 lira,bir takım elbise bir ayakkabının  fiyatının 4 katının 20 000 lira fazlası     olduğuna göre, elbisenin fiyatının yarısı kaç liradır?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410 00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420 00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440 00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450 00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75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2960" y="67680"/>
            <a:ext cx="7940160" cy="9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Cumhuriyet İlköğretim Okulu  2004-2005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588960"/>
            <a:ext cx="8209080" cy="60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şağıdaki kemiklerden hangisi bacaklarda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bulunmaz?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.kaval kemiği   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.baldır kemiği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.köprücük kemiği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.uyluk kemiğ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1" lang="tr-TR" sz="3200" spc="-1" strike="noStrike">
                <a:solidFill>
                  <a:srgbClr val="003366"/>
                </a:solidFill>
                <a:latin typeface="Arial"/>
              </a:rPr>
              <a:t>Moğol İmparatorluğu’nun parçalanmasından sonra Karadeniz’in kuzeydoğusunda Batuhan tarafından kurulan devlet hangisidi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A)Altın Orda Devlet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B)Akkoyunlula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C)Babür Devlet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)Timur Devlet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98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98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8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“Bekliyoruz” fiilinin şahsı aşağıdakilerden hangisidir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642920" y="2923920"/>
            <a:ext cx="27687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I.tekil şahıs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II.çoğul şahı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III.çoğul şahıs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I.çoğul şahı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ir sayının birler basamağı 2 arttırılıp , onlar basamağı 2 azaltılarak , yeni bir sayı elde ediliyor.Bu sayı,ilk sayıdan ne kadar azdır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2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18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1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8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Zatürree  hastalığında ,aşağıdaki organlarımızdan hangisi etkileni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karaciğer                B)kalp                  C)böbrek              D)akciğ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dolu Selçuklu Devleti yıkılma sürecine girdikten sonra Anadolu’da beylikler kurulmuştur.Aşağıdakilerden hangisi bu beyliklerden biri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eğildi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A)Germiyanoğulları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B)Candaroğulları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C)Karamanoğulları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)Saltukoğulları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“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meliyathanede hastayı güler -yüzle karşıladılar”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cümlesinde zarf olan kelime hangisidi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Ameliyathanede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Hastayı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)Güleryüzle   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)Karşıladıla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ir bölme işleminde böle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,bölüm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ve kala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olduğuna göre bölüneni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e bölünmesinden elde edilen kalan aşağıdakilerden hangisidir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3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4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5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Sağlıklı bir insanın idrarında aşağıdakilerden hangisi bulunmaz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0" y="2852640"/>
            <a:ext cx="41148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glikoz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su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)tuz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)üre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rihi bir mekanı gezerken orada kervansaraylara rastlarsanız o toplumun, neyin gelişmesine önem vermiş olduğunu düşünürsünüz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Ticare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Tarım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El sanatları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Hayvancılık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Aşağıdakilerden hangisi bileşik ad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eğildi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)Akbaba              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)Akdeniz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)Kahveci              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)Kabadayı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604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şağıdaki sözcüklerden hangisi büyük ünlü uyumuna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uymaz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42920" y="2781000"/>
            <a:ext cx="352908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)Ağlıyor      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)Akşamleyin  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)Çiçekteki   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)Üzümdek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63360" y="1269360"/>
            <a:ext cx="767304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(35,9 + 27,3 ) : (1,2 – 0,2 )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= ?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İşleminin sonucu nedir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63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63,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6,3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31,6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Şu andaki fiyatı 400 000 TL olan bir ekmeğin 1 ocak 2005 den sonraki fiyatı ne olacaktır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40 YT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4 YT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40 KURUŞ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4 KURUŞ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768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768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6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8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1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limizin ucu hangi tadı alır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Ekşi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Acı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Tatlı   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Tuzlu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38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2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şağıdakilerden hangisi sıfat tamlamasıdır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858920" y="2637000"/>
            <a:ext cx="331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Gözlük kılıfı  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Gitarın teller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)Gergin öğrenci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)Gazete kağıdı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şağıdaki namaz türlerinden hangisi, kılınması farz olan bir namaz türü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değildi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0" y="2927520"/>
            <a:ext cx="41148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)Beş vakit kılınan namazlar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)Cuma namazı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)Cenaze namazı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)Teravih namazı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768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2" dur="768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4" dur="76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6" dur="76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tr-TR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º</a:t>
            </a:r>
            <a:r>
              <a:rPr b="1" lang="tr-TR" sz="2800" spc="-1" strike="noStrike">
                <a:solidFill>
                  <a:srgbClr val="003366"/>
                </a:solidFill>
                <a:latin typeface="Arial"/>
                <a:ea typeface="Arial"/>
              </a:rPr>
              <a:t> batı boylamında yerel saat </a:t>
            </a:r>
            <a:r>
              <a:rPr b="1" i="1" lang="tr-TR" sz="2800" spc="-1" strike="noStrike">
                <a:solidFill>
                  <a:srgbClr val="003366"/>
                </a:solidFill>
                <a:latin typeface="Arial"/>
                <a:ea typeface="Arial"/>
              </a:rPr>
              <a:t>14:40</a:t>
            </a:r>
            <a:r>
              <a:rPr b="1" lang="tr-TR" sz="2800" spc="-1" strike="noStrike">
                <a:solidFill>
                  <a:srgbClr val="003366"/>
                </a:solidFill>
                <a:latin typeface="Arial"/>
                <a:ea typeface="Arial"/>
              </a:rPr>
              <a:t> iken     </a:t>
            </a:r>
            <a:r>
              <a:rPr b="1" i="1" lang="tr-TR" sz="2800" spc="-1" strike="noStrike">
                <a:solidFill>
                  <a:srgbClr val="003366"/>
                </a:solidFill>
                <a:latin typeface="Arial"/>
                <a:ea typeface="Arial"/>
              </a:rPr>
              <a:t>1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º</a:t>
            </a:r>
            <a:r>
              <a:rPr b="1" lang="tr-TR" sz="2800" spc="-1" strike="noStrike">
                <a:solidFill>
                  <a:srgbClr val="003366"/>
                </a:solidFill>
                <a:latin typeface="Arial"/>
                <a:ea typeface="Arial"/>
              </a:rPr>
              <a:t> doğu boylamında yerel saat kaçtır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12:4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16:4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13:4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17:40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r-TR" sz="3200" spc="-1" strike="noStrike">
                <a:solidFill>
                  <a:srgbClr val="003366"/>
                </a:solidFill>
                <a:latin typeface="Arial"/>
                <a:ea typeface="Arial"/>
              </a:rPr>
              <a:t>Türkçe Öğr.:Cihan ARI-M.Şahfi ÇELİK</a:t>
            </a:r>
            <a:br>
              <a:rPr sz="3200"/>
            </a:br>
            <a:br>
              <a:rPr sz="3200"/>
            </a:br>
            <a:r>
              <a:rPr b="1" lang="tr-TR" sz="3200" spc="-1" strike="noStrike">
                <a:solidFill>
                  <a:srgbClr val="003366"/>
                </a:solidFill>
                <a:latin typeface="Arial"/>
                <a:ea typeface="Arial"/>
              </a:rPr>
              <a:t>Matematik Öğr.:Sedat SÜRER</a:t>
            </a:r>
            <a:br>
              <a:rPr sz="3200"/>
            </a:br>
            <a:br>
              <a:rPr sz="3200"/>
            </a:br>
            <a:r>
              <a:rPr b="1" lang="tr-TR" sz="3200" spc="-1" strike="noStrike">
                <a:solidFill>
                  <a:srgbClr val="003366"/>
                </a:solidFill>
                <a:latin typeface="Arial"/>
                <a:ea typeface="Arial"/>
              </a:rPr>
              <a:t>Fen Bilgisi Öğr.:Barış AKINCI</a:t>
            </a:r>
            <a:br>
              <a:rPr sz="3200"/>
            </a:br>
            <a:br>
              <a:rPr sz="3200"/>
            </a:br>
            <a:r>
              <a:rPr b="1" lang="tr-TR" sz="3200" spc="-1" strike="noStrike">
                <a:solidFill>
                  <a:srgbClr val="003366"/>
                </a:solidFill>
                <a:latin typeface="Arial"/>
                <a:ea typeface="Arial"/>
              </a:rPr>
              <a:t>Sosyal Bilgiler Öğr. :H.Deniz SARMACI</a:t>
            </a:r>
            <a:br>
              <a:rPr sz="3200"/>
            </a:br>
            <a:br>
              <a:rPr sz="3200"/>
            </a:br>
            <a:r>
              <a:rPr b="1" lang="tr-TR" sz="3200" spc="-1" strike="noStrike">
                <a:solidFill>
                  <a:srgbClr val="003366"/>
                </a:solidFill>
                <a:latin typeface="Arial"/>
                <a:ea typeface="Arial"/>
              </a:rPr>
              <a:t>Din Kül. ve Ahl. Bil. Öğr.: Cafer TATAR</a:t>
            </a:r>
            <a:br>
              <a:rPr sz="3200"/>
            </a:br>
            <a:br>
              <a:rPr sz="3200"/>
            </a:br>
            <a:r>
              <a:rPr b="1" lang="tr-TR" sz="3200" spc="-1" strike="noStrike">
                <a:solidFill>
                  <a:srgbClr val="003366"/>
                </a:solidFill>
                <a:latin typeface="Arial"/>
                <a:ea typeface="Arial"/>
              </a:rPr>
              <a:t>Bilgisayar Öğr.:Gülistan UÇA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6666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tr-TR" sz="3200" spc="-1" strike="noStrike">
                <a:solidFill>
                  <a:srgbClr val="003366"/>
                </a:solidFill>
                <a:latin typeface="Arial"/>
              </a:rPr>
              <a:t>Cumhuriyet İlköğretim Okulu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3366"/>
                </a:solidFill>
                <a:latin typeface="Arial"/>
              </a:rPr>
              <a:t>2004-2005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©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5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5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5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5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5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5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5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5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5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ir çıkarma işleminde eksilen, çıkan ve farkın toplamı 396 dır. Buna göre eksilen sayı aşağıdakilerden hangisidir?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 56    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 57   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 145  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 198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şağıdakilerden hangisi saçak köklüdür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fasulye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havuç    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turp 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mısır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ürkiye'de yaz mevsimi yaşanırken ekvatordan Güney Kutbu’na doğru gidildikçe aşağıdaki değişmelerden hangisi olur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Gece süresi kısalır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Gece süresi uzar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Gece-gündüz eşitlenir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)Gündüz süresi uzar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şağıdaki kutsal kitaplarla gönderildikleri peygamberler karşılaştırılmasında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yanlış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olan hangisidir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A)Tevrat –Hz Mus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B)İncil – Hz İs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3366"/>
                </a:solidFill>
                <a:latin typeface="Arial"/>
              </a:rPr>
              <a:t>C)Kuran – Hz Muhammed</a:t>
            </a:r>
            <a:endParaRPr b="0" lang="en-US" sz="21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3366"/>
                </a:solidFill>
                <a:latin typeface="Arial"/>
              </a:rPr>
              <a:t>D)Zebur – Hz İdris</a:t>
            </a:r>
            <a:endParaRPr b="0" lang="en-US" sz="21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şağıdakilerden hangisinde “ses düşmesi “ vardır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Ağzında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Fikirsiz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)Akılsız 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)Emi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 ( A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B ) = 27,  s ( A \ B ) = 12, s ( B \ A )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= 8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s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kümesinin kaç elamanı vardır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643280" y="2997360"/>
            <a:ext cx="4013280" cy="13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)8            B)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)6            D)5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4:51:42Z</dcterms:created>
  <dc:creator>BARIŞ</dc:creator>
  <dc:description/>
  <dc:language>en-US</dc:language>
  <cp:lastModifiedBy>BARIŞ</cp:lastModifiedBy>
  <dcterms:modified xsi:type="dcterms:W3CDTF">2004-10-26T18:32:01Z</dcterms:modified>
  <cp:revision>18</cp:revision>
  <dc:subject/>
  <dc:title>1.Aşağıdakilerden hangisi bileşik ad değildir?</dc:title>
</cp:coreProperties>
</file>