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BB9A-46EF-490C-957D-EA203F589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8C9A-E541-4E88-8B78-B9A97968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783F-B9D0-4477-94E4-84FE15B2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A663-2A06-4F77-8AD0-2C9C881AA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22D5-3182-4A1A-8348-A3A7061C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F3BC-05D0-4EB8-8BFC-3DC4C180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02D8-C3B1-44B1-8920-366DC9DE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E9A4-1B06-4B61-8EDF-2FF6A475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EFFE-6E95-4EBC-A967-FDEF2425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244F-11F0-42BC-80DE-AC274F38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71AC-C4A0-486B-921C-20AE711E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6194-5B47-41F7-A157-81836B61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D157-D19C-4F8B-903E-291F3A40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2DC0-2091-4DB2-A803-763D5C76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BB98-1638-4BD3-975B-36B94BAD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FAA0-EFB8-449D-8E35-6E213EFB5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F161-01BB-43F8-BC48-679803283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00CD-CA76-4358-B484-D09663C7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A091-C6D4-4339-83FF-6336883C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783B-27D1-4132-9327-67A1E94A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D387-E442-4A7F-9A21-A498E7CA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842F-8BF1-4009-9D90-224AA94F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2011-2FAA-49C3-8A40-22D7558C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DBB1-2DC8-4D59-8E2A-3C38754A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5010-D5D8-4F5C-966C-0F54770267AF}" type="slidenum">
              <a:rPr b="0" lang="tr-T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38E5-8FA0-412B-B5E7-EF742722F013}" type="slidenum">
              <a:rPr b="0" lang="tr-T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6000" spc="-1" strike="noStrike">
                <a:solidFill>
                  <a:srgbClr val="ffcc66"/>
                </a:solidFill>
                <a:latin typeface="Times New Roman"/>
              </a:rPr>
              <a:t>ÇOCUK YAŞADIĞINI ÖĞRENİR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2285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66"/>
                </a:solidFill>
                <a:latin typeface="Times New Roman"/>
              </a:rPr>
              <a:t>GÜVEN ORTAMI İÇİNDE YETİŞMİŞS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İnançlı olmayı öğreni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66"/>
                </a:solidFill>
                <a:latin typeface="Times New Roman"/>
              </a:rPr>
              <a:t>KABUL VE ONAY GÖRMÜŞSE</a:t>
            </a:r>
            <a:br>
              <a:rPr sz="6600"/>
            </a:b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Kendini sevmeyi öğreni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AİLE İÇİNDE DOSTLUK VE ARKADAŞLIK GÖRMÜŞSE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28600" y="388620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u dünyada mutlu olmayı öğreni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099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EĞER BİR ÇOCUK SÜREKLİ ELEŞTİRİLMİŞSE;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Kınama ve ayıplamayı öğreni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KİN ORTAMINDA BÜYÜMÜŞSE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;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Kavga etmeyi öğrenir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66"/>
                </a:solidFill>
                <a:latin typeface="Times New Roman"/>
              </a:rPr>
              <a:t>ALAY EDİLİP AŞAĞILANMIŞSA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;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Sıkılıp utanmayı öğrenir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DEVAMLI UTANDIRILARAK TERBİYE EDİLMİŞSE;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endini suçlamayı öğrenir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EĞER BİR ÇOCUK HOŞGÖRÜ İLE YETİŞTİRİLMİŞSE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abırlı olmayı öğreni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66"/>
                </a:solidFill>
                <a:latin typeface="Times New Roman"/>
              </a:rPr>
              <a:t>DESTEKLENİP YÜREKLENDİRİLMİŞS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Kendine güven duymayı öğreni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676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ÖVÜLMÜŞ VE BEĞENİLMİŞSE;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388620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akdir etmeyi öğrenir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HAKKINA SAYGI GÖSTERİLEREK BÜYÜTÜLMÜŞSE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dil olmayı öğrenir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8T08:04:09Z</dcterms:created>
  <dc:creator>hüseyin</dc:creator>
  <dc:description/>
  <dc:language>en-US</dc:language>
  <cp:lastModifiedBy>hüseyin</cp:lastModifiedBy>
  <dcterms:modified xsi:type="dcterms:W3CDTF">2002-08-23T12:53:12Z</dcterms:modified>
  <cp:revision>2</cp:revision>
  <dc:subject/>
  <dc:title>       ÇOCUK YAŞADIĞINI ÖĞRENİR    </dc:title>
</cp:coreProperties>
</file>