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22C-D19D-4E13-BF6C-8A394084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9BF-4339-4F43-97FB-1F8D9900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422-7ED2-471A-9344-4D9C482E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7AE-98B8-4446-B69E-C6DA085D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702F-89A7-4ACF-A659-D1BCAEB9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6F3D-DEA9-448C-8671-3999EB42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0ED9-09D7-45F6-9608-D365FF41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63A7-DFDE-43C9-AF05-7730AE06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447C-B5CF-499E-8C92-1BE4BCEE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C622-67C1-4319-8984-A7A4125C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250C-A326-47F5-B831-AF450CCD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F1AD-6BA3-4E35-B5CE-09B1B358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083D-57C4-4F62-B62F-46E80698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054C-4451-4C0D-BF1D-C50B30EC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A8C8-008F-454E-B8D5-934C7D3B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76C6-3D75-4F02-AEF9-420C3EFE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05C9-ED6F-4191-B412-0A01DE2C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4B0-BB05-4E77-92AE-F1E372CF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0A8-24FC-414D-93D5-529B95A9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1D7-54B3-43C9-956B-CBF79E3F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EE5-1786-4AA1-AB8F-AB3EB312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02A-A329-421F-8917-9FF45CF0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E3AE-DE15-4815-8F53-4F73D516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4BE-CA73-44E3-88C3-F44332C5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0389-2221-405D-95A8-C40BE5203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B3B1-8E93-4633-8AAD-D0A112B2D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219320" y="1143000"/>
            <a:ext cx="7086600" cy="35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KESİRLERD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BÜYÜKLÜK - KÜÇÜKLÜ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İLİŞKİLERİ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874800" cy="1440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651640" y="1773360"/>
            <a:ext cx="1655640" cy="1728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Bu kesirleri büyükten küçüğe sıralayalım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556000" y="4581360"/>
            <a:ext cx="647640" cy="730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619280" y="4076640"/>
            <a:ext cx="1046160" cy="1727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500720" y="4581360"/>
            <a:ext cx="647640" cy="730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516720" y="4508640"/>
            <a:ext cx="647640" cy="730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4427640" y="1844640"/>
            <a:ext cx="1046160" cy="1727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3059280" y="1700280"/>
            <a:ext cx="1008000" cy="1798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3348000" y="3933720"/>
            <a:ext cx="1008000" cy="1943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5292720" y="4221000"/>
            <a:ext cx="874800" cy="1440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1"/>
          <a:stretch/>
        </p:blipFill>
        <p:spPr>
          <a:xfrm>
            <a:off x="7236000" y="4149720"/>
            <a:ext cx="1655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Aşağıdaki kesirleri küçükten büyüğe doğru sıralayalım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903240" cy="1344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411280" y="1844640"/>
            <a:ext cx="1368720" cy="134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067280" y="1844640"/>
            <a:ext cx="140472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724360" y="1844640"/>
            <a:ext cx="1368720" cy="1335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484360" y="4365720"/>
            <a:ext cx="438120" cy="61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356000" y="4365720"/>
            <a:ext cx="438120" cy="619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6227640" y="4221000"/>
            <a:ext cx="4381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3 0.15461 L -0.5316 0.3224 E">
                                      <p:cBhvr>
                                        <p:cTn id="73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11139 L 0.06702 0.3106 E">
                                      <p:cBhvr>
                                        <p:cTn id="7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1063 L 0.075 0.30437 E">
                                      <p:cBhvr>
                                        <p:cTn id="8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0.00717 L 0.64965 0.27641 E">
                                      <p:cBhvr>
                                        <p:cTn id="8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Aşağıdaki kesirleri büyükten küçüğe doğru sıralayın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98928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27280" y="1700280"/>
            <a:ext cx="1279440" cy="1297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427640" y="1700280"/>
            <a:ext cx="1154160" cy="1297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012000" y="1700280"/>
            <a:ext cx="1439640" cy="1270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195640" y="4581360"/>
            <a:ext cx="361800" cy="543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4140360" y="4581360"/>
            <a:ext cx="361800" cy="543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6300720" y="4653000"/>
            <a:ext cx="36216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0.10492 L -0.40955 0.38803 E">
                                      <p:cBhvr>
                                        <p:cTn id="9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59926E-006 L -0.39358 0.36885 E">
                                      <p:cBhvr>
                                        <p:cTn id="9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88 0.09452 L 0.23715 0.37763 E">
                                      <p:cBhvr>
                                        <p:cTn id="9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25 0.08921 L 0.67049 0.37232 E">
                                      <p:cBhvr>
                                        <p:cTn id="10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Aşağıdaki kesirleri küçükten büyüğe doğru sıralayın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984240" cy="115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195640" y="1628640"/>
            <a:ext cx="1193760" cy="129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635280" y="1628640"/>
            <a:ext cx="1127160" cy="1295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148360" y="1628640"/>
            <a:ext cx="1511280" cy="1306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411280" y="4292640"/>
            <a:ext cx="438120" cy="619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4067280" y="4149720"/>
            <a:ext cx="474480" cy="669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5867280" y="4221000"/>
            <a:ext cx="4381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65704E-006 L -0.27552 0.34597 E">
                                      <p:cBhvr>
                                        <p:cTn id="109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42 0.09429 L 0.2533 0.32493 E">
                                      <p:cBhvr>
                                        <p:cTn id="113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7.62653E-007 L -0.09045 0.32424 E">
                                      <p:cBhvr>
                                        <p:cTn id="11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19 0.11532 L 0.47813 0.33533 E">
                                      <p:cBhvr>
                                        <p:cTn id="12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Aşağıdaki kesirleri küçükten büyüğe doğru sıralayın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1246320" cy="136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1152720" cy="1440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564000" y="1843200"/>
            <a:ext cx="1227240" cy="1441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219640" y="184464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1979640" y="5013360"/>
            <a:ext cx="438120" cy="619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3492360" y="4941720"/>
            <a:ext cx="438120" cy="619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5219640" y="4869000"/>
            <a:ext cx="43812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14 0.11555 L -0.50069 0.40906 E">
                                      <p:cBhvr>
                                        <p:cTn id="12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1 0.11555 L -0.14583 0.38803 E">
                                      <p:cBhvr>
                                        <p:cTn id="13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45505E-006 L 0.38854 0.38272 E">
                                      <p:cBhvr>
                                        <p:cTn id="13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0.10492 L 0.40955 0.38803 E">
                                      <p:cBhvr>
                                        <p:cTn id="13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Aşağıdaki kesirleri büyükten küçüğe doğru sıralayın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1027080" cy="129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340000" y="1844640"/>
            <a:ext cx="1344600" cy="1440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924360" y="1843200"/>
            <a:ext cx="1368360" cy="144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508720" y="1844640"/>
            <a:ext cx="1150920" cy="136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2195640" y="5084640"/>
            <a:ext cx="361800" cy="542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4356000" y="5084640"/>
            <a:ext cx="362160" cy="542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6227640" y="5157720"/>
            <a:ext cx="36216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81 0.10492 L -0.35833 0.42986 E">
                                      <p:cBhvr>
                                        <p:cTn id="14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00601E-006 L 0.22743 0.42986 E">
                                      <p:cBhvr>
                                        <p:cTn id="149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22 0.10492 L 0.2809 0.42986 E">
                                      <p:cBhvr>
                                        <p:cTn id="153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45505E-006 L 0.12604 0.42455 E">
                                      <p:cBhvr>
                                        <p:cTn id="15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4:18:53Z</dcterms:created>
  <dc:creator>meb</dc:creator>
  <dc:description/>
  <dc:language>en-US</dc:language>
  <cp:lastModifiedBy>OGR1</cp:lastModifiedBy>
  <dcterms:modified xsi:type="dcterms:W3CDTF">2006-03-14T06:58:21Z</dcterms:modified>
  <cp:revision>4</cp:revision>
  <dc:subject/>
  <dc:title>Slayt 1</dc:title>
</cp:coreProperties>
</file>