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B6A-88E8-42F5-9557-4EE9904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E3E-A013-4D0C-B844-D8E7B00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AFB-DB9C-42D0-8230-3693D675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8A64-84DD-4C70-8FE0-11E346BF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113-245B-4273-B3D2-0EF84EC0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35E-55AA-407D-B397-5402049B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95C-BF98-4558-91D1-52E656D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3FF-D0AB-43E4-BBE6-A83B1443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3D60-331C-4C25-8D6D-537BF8C7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649-AFF4-4417-9B94-5FB2DF36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C97-939B-4DF1-9421-5A9359D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A7E-A016-44F4-BBAB-D11316C1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904-0D7A-4943-9DB0-D29600FC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ÖĞRENMENİN OLUŞU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rof. Dr. Nuray SENEMOĞ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D.Ü. Eğitim Fakültesi Dekan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Sonuç olarak, kısa süreli belleğe gelen bilgi şunlardan biri ile sonuçlanmaktadı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ihinsel tekrar yoluyla bir süre hatırda tutularak doğrudan tepki üreticilere gönderilir ve davranış olarak ortaya çıka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Örneğin; rehbere bakıp bir kez telefonu çevi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gi, tekrarlanmadığında ya da kodlanmadığında yirmi saniye içinde tamamen unutula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ihinsel tekrar ve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kodla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(anlamlandırm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apılarak uzun süreli belleğe gönderilir; hatırlanmak üzere saklan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ZUN SÜRELİ BELL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 algn="just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Kısa süreli bellekte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ekrar edilerek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ya da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nlamlandırılarak(kodlanarak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gönderilen bilgiyi sürekli olarak sakladığımız depo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uzun süreli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bellekti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Ş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Şemalar, birbirlerine bağlı olan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fikirler, ilişkiler ve işleml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etidi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ygun şemayı bulmaksızın herhangi bir şeyi anlamaya çalışmak tıpkı yeni gittiğimiz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ir şehirde haritasız yol bulmay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benzer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u çok zor ve yavaş işleyen bir süreçt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NLIŞ ŞEMA OLUŞTURMAMAK İÇİN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 algn="just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Özellikle küçük yaşlardaki çocukların öğretimin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 öğrenci hangi yaşta olursa olsun tamamen yeni oluşacak öğrenmeler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omut görsel uyarıcı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llanılarak öğrencilerin yanlış anlamaları ve yanlış şema oluşturmaları engellenmeli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Örneğin;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“DENİZ”i hiç görmemiş bir çocuğun “Deniz”i öğrenmesi, denize ilişkin doğru şema geliştirmesi içi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film, video, slayt, poster vb. göstermek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özel açıklama yapmaktan daha etkili bir öğretme-öğrenme etkinliği olacak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ık sık öğrencinin öğrenme eksik ve yanlışlarını belirleyerek, zaman geçmeden, öğrencilerin bunları düzeltmelerini sağlamak gerek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u nedenle ünite sonlarında değerlendirme yapılması, öğrencilerin doğru şemalar oluşturarak sonraki öğrenmelerini bunların üzerine kurması açısından önemlid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Okulöncesi yıllarda çocuklar ne kadar çok yaşantı kazanır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kadar çok şema geliştireceklerdir. Bu durum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aha çok şemay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hip olan çocuklar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okul öğrenmeleri bakımından daha büyük avantaja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üstünlüğe sahip olacaklardı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c0066"/>
                </a:solidFill>
                <a:latin typeface="Arial"/>
              </a:rPr>
              <a:t>ÖNCEKİ BİLGİ İLE YENİ BİLGİ ARASINDA ŞEMATİK A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0000"/>
                </a:solidFill>
                <a:latin typeface="Arial"/>
              </a:rPr>
              <a:t>Örneğin;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öğrenciler üçgenin alanını hesaplamayı öğreneceklerse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, öğretmen daha önce öğrenmiş oldukları kare ve dikdörtgenin alanını nasıl hesapladıklarını hatırlamalarını sağlamalı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tr-TR" sz="1600" spc="-1" strike="noStrike">
                <a:solidFill>
                  <a:srgbClr val="3333ff"/>
                </a:solidFill>
                <a:latin typeface="Arial"/>
              </a:rPr>
              <a:t>önceki bilgileriyle yeni öğrenecekleri bilgi arasında ilişki kurmalarına rehberlik etmelidir. Bir örnek durum olarak; bir kare ve dikdörtgen kağıdı karşılıklı iki köşelerinden ikiye bölmelerini isteyebilir</a:t>
            </a:r>
            <a:r>
              <a:rPr b="1" lang="tr-TR" sz="16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1" lang="tr-TR" sz="1600" spc="-1" strike="noStrike">
                <a:solidFill>
                  <a:srgbClr val="000099"/>
                </a:solidFill>
                <a:latin typeface="Arial"/>
              </a:rPr>
              <a:t>Böylelikle bir üçgenin alanının dikdörtgen ya da karenin yarısı olduğunu görmelerine dolayısıyla da üçgenin alan formülünü öğrencilerinin kendilerinin bulmalarına yardım edebilir.</a:t>
            </a:r>
            <a:r>
              <a:rPr b="1" lang="tr-TR" sz="1600" spc="-1" strike="noStrike">
                <a:solidFill>
                  <a:srgbClr val="3333ff"/>
                </a:solidFill>
                <a:latin typeface="Arial"/>
              </a:rPr>
              <a:t> Böylece yeni öğrenilecek bilgi öncekine dayalı olarak, ilişkilendirilerek öğrenilmiş ve anlamlı öğrenme gerçekleşmiş ol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                                                                 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                            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a x b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          a                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a x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 x b                              2                           a x a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447920" y="4190760"/>
            <a:ext cx="6629040" cy="1371600"/>
            <a:chOff x="1447920" y="4190760"/>
            <a:chExt cx="6629040" cy="1371600"/>
          </a:xfrm>
        </p:grpSpPr>
        <p:sp>
          <p:nvSpPr>
            <p:cNvPr id="67" name=""/>
            <p:cNvSpPr/>
            <p:nvPr/>
          </p:nvSpPr>
          <p:spPr>
            <a:xfrm>
              <a:off x="1447920" y="4213800"/>
              <a:ext cx="1704240" cy="13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7920" y="4206960"/>
              <a:ext cx="1704240" cy="1355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99520" y="4213800"/>
              <a:ext cx="1188720" cy="13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5880" y="4383720"/>
              <a:ext cx="1868040" cy="1155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485160" y="4190400"/>
              <a:ext cx="1868040" cy="1155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7058160" y="4213080"/>
              <a:ext cx="1018800" cy="1155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58160" y="4406400"/>
              <a:ext cx="1018800" cy="1155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giyi işleme modeline göre, öğrenmenin oluşumunda iki önemli öğe rol oynamaktayd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tr-TR" sz="2000" spc="-1" strike="noStrike">
                <a:solidFill>
                  <a:srgbClr val="009900"/>
                </a:solidFill>
                <a:latin typeface="Arial"/>
              </a:rPr>
              <a:t>Bu öğelerden biri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bilgi depoları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 olan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üç tür bellek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id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Buraya kadar bu bilgi depolarının özelliklerini ve öğrenmeyi sağlamak için öğretmenlerin almaları gereken önlemleri inceled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000000"/>
                </a:solidFill>
                <a:uFillTx/>
                <a:latin typeface="Arial"/>
              </a:rPr>
              <a:t>İkinci öğe ise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009900"/>
                </a:solidFill>
                <a:latin typeface="Arial"/>
              </a:rPr>
              <a:t>bilgiyi bir bilgi deposundan diğerine, etkili bir biçimde aktarmamızı sağlayarak öğrenmenin oluşmasını gerçekleştiren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ilişsel süreçlerdir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Burada kısaca inceleyeceğimiz süreçler, duyusal kayıta gelen bilginin kısa süreli belleğe aktarılmasında etkili olan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dikkat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ve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seçici algı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tr-T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8000"/>
                </a:solidFill>
                <a:latin typeface="Arial"/>
              </a:rPr>
              <a:t>K</a:t>
            </a:r>
            <a:r>
              <a:rPr b="1" lang="tr-TR" sz="2400" spc="-1" strike="noStrike">
                <a:solidFill>
                  <a:srgbClr val="009900"/>
                </a:solidFill>
                <a:latin typeface="Arial"/>
              </a:rPr>
              <a:t>ısa süreli belleğe gelen bilgiyi uzun süreli belleğe transfer etmede kullanılan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tekrar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ve </a:t>
            </a: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kodlama / anlamlandırma 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süreçler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İKK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Öğrenm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dikkat süreciyle başlar. Öğrenmede ilk adım dikkat etmedi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kat gerek,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bireyin bilinçli içsel süreçle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erekse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çevresel uyarıcı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rafından kontrol edile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ğrencilerin o dersi, o konuyu başarabileceğine ilişkin inancı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(akademik öz güven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kkatini büyük ölçüde etkilemektedir. Öğrenci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başarabildiğ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rse, konuya karşı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daha çok ilg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uyup dikkatini veri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Öğrencinin dikkatini çekmede kullanılabilecek çevresel uyarıcılar da şöyle sıralanabil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Fiziksel Uyarıcı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Örneğin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karsuların denize dökülmesini belirgin olar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üç boyutlu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gösteren bir kabartma har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kkati çekip öğrenmeyi sağlarken; bunun yanında harit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gereksiz olarak verilmiş pek çok ayrınt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çizgi dikkati dağıtır, hatta başka konulara yöneltebil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Öğretmenin mimiklerini etkili olarak kullanmas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kkat çekici iken, aşırı derecede 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bartılı kullanması dikkat dağıtıcı olabil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Beyind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en etkili öğrenme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orta düzeyde uyarılm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onucunda oluş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ürek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larak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ynı uyarıcıların aynı biçimlerde kullanılmas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dikk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çekme özelliğini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aybolmasına neden ol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. Aykırı Uyarıcı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Özellikle;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zıt etki yaratan, aykırı gelen uyarıcılar öğrencinin dikkatini harekete geçi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800600" y="3124080"/>
          <a:ext cx="3809880" cy="17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124080"/>
                    <a:ext cx="380988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ygusal Uyarıcı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lvl="1" marL="609120" indent="-234360" algn="just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azı uyarıcılar duygusal tepkileri uyarırlar ve etkinlik düzeyini artırır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Örneğin öğrenciye adıyla hitap etm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un hemen dikkatinin çekilmesini sağ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yrıca, sevgi, mutluluk, ölüm, nefret gibi </a:t>
            </a:r>
            <a:r>
              <a:rPr b="0" i="1" lang="en-US" sz="2800" spc="-1" strike="noStrike">
                <a:solidFill>
                  <a:srgbClr val="3333ff"/>
                </a:solidFill>
                <a:latin typeface="Arial"/>
              </a:rPr>
              <a:t>duygu yüklü sözcükler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bulunduğu öğrenme materyali, nötr sözcüklerin bulunduğu materyalden daha dikkat çekici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rneğin;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“Ayşe çok sevdiği şehir olan İzmir’e git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cümlesi 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“Ayşe İzmir’e gitt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ümlesinden daha dikkat çekici ola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 Emir Verici Uyarıcı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rneğin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şimdi buraya dikkat ed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 ,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“şimdi herkes resmin sağ tarafına dikkatle baksın”, </a:t>
            </a: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“şimdi söyleyeceğim nokta çok önemli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bi yönlendirici ifadelerle öğretmenin öğrencinin dikkatini belli noktalara toplaması gerek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Öğrenciler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önemli bilgi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önemsizden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ayırt etmey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öğrendikten sonra,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ikkatlerin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endiler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yönlendirebilir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endi dikkatlerin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kontrol edebilirl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ÖĞRENME NASIL OLUŞMAKTADI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llikle uyarıcı bombardımanı karşısında şu işlemler yapılmaktadı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öze, kulağa ve diğer duyu organlarına ge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ziksel uyarıcı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çilerek sinirsel iletil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(mesajlara) dönüştürülmek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aha sonra b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esaj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polanabilme ve hatırlanabilmeleri iç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nir sistemin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başka değişimlere uğramak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ilgiyi hatırlam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çin 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polanan mesaj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kasların hareketi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k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ebilecek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ir başka mesaj türüne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dönüştürülmekte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Özetle öğretmenl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öğrencilerin dikkatlerini çekme ve belli noktalarda odaklaşmalarını sağlamak için aşağıdaki önerileri uygulayabil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ğrencilere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derste ne öğreneceklerin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öğrendiklerinin günlük yaşamlarında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ne işlerine yarayacağın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çıklayınız, önemini benimsetiniz. Örnek olay ve durumlarla gözlemelerini sağlayını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ğrencilere sorular sorarak onlarda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erak uyandırını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Örneğ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“Zaman birimi olarak saat olmasaydı insanlar nasıl yaşard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Beklenmeyen olaylar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yaratar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öğrencilerin dikkat kesilmelerini sağlayınız. Örneğin; çevre temizliğini işleyeceğiniz bir günde çöp torbaları,faraşlar, süpürgeler, eldivenlerle sınıfa girebilir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Öğrencilerin   uyarılmalarını sağladıktan sonra birlikte dışarı çıkarak çevreyi temizlerken dersin hedef davranışlarını kazandırabilirsini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ınıfın oturuş düzenini değiştirere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rklı 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araç-gereçler kullanara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fiziksel çevrede değişiklikler yaratını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Öğrencilerin </a:t>
            </a:r>
            <a:r>
              <a:rPr b="1" i="1" lang="en-US" sz="1800" spc="-1" strike="noStrike">
                <a:solidFill>
                  <a:srgbClr val="cc0066"/>
                </a:solidFill>
                <a:latin typeface="Arial"/>
              </a:rPr>
              <a:t>dokunmasına, koklamasına, duymasına, tatmasına, görmes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lanak tanıyan uyarıcılar kullanını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eket ediniz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est ve mimiklerinizi kullanınız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s tonunuzu alçaltıp yükseltiniz, yumuşak bir ses tonu kullanını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7.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Kalemle oynama, gözü bir noktaya odaklama, hızla sınıfta dolaşma gibi dikkat dağıtıcı davranışlardan kaçınını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LG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800" spc="-1" strike="noStrike">
                <a:solidFill>
                  <a:srgbClr val="3333cc"/>
                </a:solidFill>
                <a:latin typeface="Arial"/>
              </a:rPr>
              <a:t>Duyusal kayıta gelen bilginin kısa süreli belleğe aktarılmasında etkili ola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diğer bir süreç de </a:t>
            </a:r>
            <a:r>
              <a:rPr b="1" i="1" lang="tr-TR" sz="2800" spc="-1" strike="noStrike">
                <a:solidFill>
                  <a:srgbClr val="000000"/>
                </a:solidFill>
                <a:latin typeface="Arial"/>
              </a:rPr>
              <a:t>seçici algı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id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Algılama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büyük ölçüde bireyin </a:t>
            </a:r>
            <a:r>
              <a:rPr b="1" lang="tr-TR" sz="2800" spc="-1" strike="noStrike">
                <a:solidFill>
                  <a:srgbClr val="3333cc"/>
                </a:solidFill>
                <a:latin typeface="Arial"/>
              </a:rPr>
              <a:t>ön öğrenmelerind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 beklentilerind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800" spc="-1" strike="noStrike">
                <a:solidFill>
                  <a:srgbClr val="008000"/>
                </a:solidFill>
                <a:latin typeface="Arial"/>
              </a:rPr>
              <a:t>güdülenmişlik düzeyind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etkilen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İLGİNİN KISA SÜRELİ BELLEKTEN UZUN SÜRELİ BELLEĞE GÖNDERİLMESİNDE KULLANILAN SÜREÇ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ÖRTÜK ve AÇIK TEK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Tekrar ya da ezb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ocukların çok kullandığı bir öğrenme stratejisi olmakla birlikte, bilgiyi kısa süreli bellekten uzun süreli belleğe aktarmad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 ilkel ve yüzeysel bir yold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DLAMA / ANLAMLAND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Kodlama ya da anlamlandırma, kısa süreli bellekteki bilginin, uzun süreli bellekt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halihazırda var olan bilgilerle ilişkilendirilere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uzun süreli belleğe transfer edilme sürecid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ĞRENCİLERİN BİLGİYİ ANLAMLI BİR BİÇİMDE ÖĞRENEBİLMELERİ İÇİN </a:t>
            </a: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ÖĞRETMENLERİN DÜZENLEYECEKLERİ ÖĞRETME-ÖĞRENME ETKİNLİKLERİ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Öğretmenler, öğrencileri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yeni bilgi 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lgil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önceki bilgilerini hatırlamalarını sağlayarak, ilişki kurmaları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eni bilgiyi eski bilgiye eklemelerine yardımcı olmalıdırlar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Ekleme/Genişlet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Örneğin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ış ünitesini işlerken, öğrenciler, hayat bilgisi dersinde kış mevsiminin özelliklerini öğren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rada öğrendikleri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kışın vücudu sıcak tutmak gerekir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lkesini, yani ön öğrenmeyi hatırlayıp kullanarak beden eğitimi dersind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kışın vücudu sıcak tutan hareketler nelerd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” sorusuna cevap verici hareketler öğrenebilir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Böylec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öğrenciler ön öğrenmeleri ile yeni öğrenmeler arasında ilişki kurarak anlamlı öğrenmeyi gerçekleştirmiş ol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Öğretmenler, öğrencilerin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yeni bilgiy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aha önce kazanmış oldukları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eski bilgilerle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yapay benzerlikl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urarak anlamlandırmalarını sağlayabilirler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Eklemleme/Genişletme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Örneğin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Vücudumuzu Tanıyalım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nitesini işlerke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beyin ve fonksiyonlarını”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aha önceki sınıflar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okulumuz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nitesinde gördükler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müdür” ve görevlerin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zetilebilir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Müdür”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nasıl okulu yönetiyor, kontrol ediyor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beyin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vücudu yönetip kontrol ediyor dene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Öğretmenler, öğrencilerin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eski öğrendikleri bilg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le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yeni öğrendikleri bilgiler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karşılaştırmalarını sağlayacak ödevler, alıştırmalar verebilir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Örneği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Öğrencilerin daha önce öğrendikle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“al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le yeni öğreni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“haci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arşılaştırmalarını ve aralarındaki farklılıkları, 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ilişkileri ödev olarak vere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Öğretmenler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onunun ana hatların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öğrencilere vererek öğrencinin konuyu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örgütleme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 konunun ayrıntısını içine yerleştireceği bi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şema geliştirmesine rehberlik etmeli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0000"/>
                </a:solidFill>
                <a:latin typeface="Arial"/>
              </a:rPr>
              <a:t>Örneğin;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“Uzay ve Dünya” </a:t>
            </a:r>
            <a:r>
              <a:rPr b="1" i="1" lang="tr-TR" sz="2000" spc="-1" strike="noStrike">
                <a:solidFill>
                  <a:srgbClr val="cc0066"/>
                </a:solidFill>
                <a:latin typeface="Arial"/>
              </a:rPr>
              <a:t>isimli bir ünitenin ana hatları şöyle oluşturulabilir ve öğrencinin ayrıntıyı nereye yerleştireceğine rehberlik edilmiş ol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Uzay ve Dün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99"/>
                </a:solidFill>
                <a:latin typeface="Times New Roman"/>
              </a:rPr>
              <a:t>1. </a:t>
            </a:r>
            <a:r>
              <a:rPr b="1" lang="tr-TR" sz="2000" spc="-1" strike="noStrike">
                <a:solidFill>
                  <a:srgbClr val="000099"/>
                </a:solidFill>
                <a:latin typeface="Arial"/>
              </a:rPr>
              <a:t>Güneş siste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Güneş ve güneş sisteminde yer alan uyd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Güneşe olan uzaklık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    • 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Özellikl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000099"/>
                </a:solidFill>
                <a:latin typeface="Arial"/>
              </a:rPr>
              <a:t>2. Üstünde yaşadığımız dün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9933"/>
                </a:solidFill>
                <a:latin typeface="Arial"/>
              </a:rPr>
              <a:t>     • 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Fiziksel Özellikl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    • 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S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     • 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Kar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000099"/>
                </a:solidFill>
                <a:latin typeface="Arial"/>
              </a:rPr>
              <a:t>3. Gündüz – gece ve mevsimlerin oluşu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Konuyla ilgil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emel çerçeveyi veren,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şema, tablo, çizelge ve matrisl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ilginin yapılandırılmasında, örgütlenmesinde dolayısıyla da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ilgiyi anlamlandırmad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önemli bir yere sahipt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0000"/>
                </a:solidFill>
                <a:latin typeface="Arial"/>
              </a:rPr>
              <a:t>Örneği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99"/>
                </a:solidFill>
                <a:latin typeface="Arial"/>
              </a:rPr>
              <a:t>somut kavramlardan soyut kavramlara doğru ilerlemeyi sağlayan hiyerarşik bir biçimde örgütlenen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“kavram şemaları (haritaları)”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99"/>
                </a:solidFill>
                <a:latin typeface="Arial"/>
              </a:rPr>
              <a:t>bilginin anlamlı bir biçimde öğrenilmesini sağ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sim1" descr=""/>
          <p:cNvPicPr/>
          <p:nvPr/>
        </p:nvPicPr>
        <p:blipFill>
          <a:blip r:embed="rId2"/>
          <a:stretch/>
        </p:blipFill>
        <p:spPr>
          <a:xfrm>
            <a:off x="824040" y="622440"/>
            <a:ext cx="749592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ns3" descr=""/>
          <p:cNvPicPr/>
          <p:nvPr/>
        </p:nvPicPr>
        <p:blipFill>
          <a:blip r:embed="rId2"/>
          <a:stretch/>
        </p:blipFill>
        <p:spPr>
          <a:xfrm>
            <a:off x="1066680" y="547560"/>
            <a:ext cx="7315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ns2" descr=""/>
          <p:cNvPicPr/>
          <p:nvPr/>
        </p:nvPicPr>
        <p:blipFill>
          <a:blip r:embed="rId2"/>
          <a:stretch/>
        </p:blipFill>
        <p:spPr>
          <a:xfrm>
            <a:off x="0" y="-5868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yrı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bilgi, tablolar ve matrisler halinde de verilerek ya da öğrencinin bilgiyi tablolara, matrislere dönüştürmesi sağlanarak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bilgiyi örgütlemesin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, diğer bir deyişle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anlamlı öğrenmesin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yardım edile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rıca, bilgi,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tablolar ve matris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inde de verilerek ya da öğrencinin bilgiyi tablolara, matrislere dönüştürmesi sağlanarak bilgiyi örgütlemesine, diğer bir deyişle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nlamlı öğrenmes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ardım edilebil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33520" y="2514600"/>
          <a:ext cx="7902360" cy="3571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514600"/>
                    <a:ext cx="79023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. Öğretmenler, öğrencilerin yeni sözcükleri, kavramları, olayların geçtiği yeri, zamanı vb. durumları sadece tekrar ederek ezberlemeleri yer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ellek destekleyici stratejile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kullanarak öğrenmelerine rehberlik edebilir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Bellek destekleyiciler, bilgiyi daha anlamlı hale getirerek öğrencinin hatırlamasını kolaylaştır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tr-TR" sz="1800" spc="-1" strike="noStrike">
                <a:solidFill>
                  <a:srgbClr val="ff0000"/>
                </a:solidFill>
                <a:latin typeface="Arial"/>
              </a:rPr>
              <a:t>Örneğin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99"/>
                </a:solidFill>
                <a:latin typeface="Arial"/>
              </a:rPr>
              <a:t>Bir şiiri öğrenirken, öğrencinin şiirin her anlamlı satırını resimsel olarak düşünmesi sağlanır. Böylece resim ile satırı ilişkilendiren öğrenci, resimsel olayı hatırlayarak şiirin satırlarını şaşırmadan kolayca hatırlayıp okuyabil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i="1" lang="tr-TR" sz="2000" spc="-1" strike="noStrike">
                <a:solidFill>
                  <a:srgbClr val="000000"/>
                </a:solidFill>
                <a:latin typeface="Arial"/>
              </a:rPr>
              <a:t>Bazı bilgileri, kafiye oluşturarak hatırlayabilir, yeni cümleler oluşturabilir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tr-TR" sz="1800" spc="-1" strike="noStrike">
                <a:solidFill>
                  <a:srgbClr val="ff0000"/>
                </a:solidFill>
                <a:latin typeface="Arial"/>
              </a:rPr>
              <a:t> Örneğin;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d60093"/>
                </a:solidFill>
                <a:latin typeface="Arial"/>
              </a:rPr>
              <a:t>duyu organlarının adlarını ezberleyecek çocuklar duyu      organlarının baş harfleriyle hatta kendilerini cümle içinde kullanarak duyu organlarını hatırlayabilirler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6666ff"/>
                </a:solidFill>
                <a:latin typeface="Arial"/>
              </a:rPr>
              <a:t>                          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Gözüme toz kaçt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Burnuma karab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Dilim sütten yand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Derim çiçek tozund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tr-TR" sz="2000" spc="-1" strike="noStrike">
                <a:solidFill>
                  <a:srgbClr val="000099"/>
                </a:solidFill>
                <a:latin typeface="Arial"/>
              </a:rPr>
              <a:t>Kulağıma küpe oldu bunlar</a:t>
            </a:r>
            <a:r>
              <a:rPr b="1" lang="tr-TR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ynin İki Yarı Küresini Etkili Olarak Nasıl Kullanalı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Beyninin sol yarı küre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özel, matematiksel, mantıksal bilgiyi işlemek iç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sağ yarı küre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algısal, dikkat çekici, uzaysal, bütüncü artistik bilgiyi işlemek için daha uygundur.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Ancak beynin iki yarı küres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nirsel bir bağ aracılığıyla iletişim kurmakta herhangi bir öğrenmeye iki yarı küre de katkıda bulunmakta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Öğretmenl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ğitim durumunda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öğrencinin beynin her iki yarı küresini de kullanmasını sağlayacak biçimde öğretme-öğrenme etkinliği düzenl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 somut yaşantı kazandıran gerçek varlık ve olayları gözlemekten başlayarak, </a:t>
            </a:r>
            <a:r>
              <a:rPr b="1" i="1" lang="en-US" sz="2000" spc="-1" strike="noStrike">
                <a:solidFill>
                  <a:srgbClr val="cc0066"/>
                </a:solidFill>
                <a:latin typeface="Arial"/>
              </a:rPr>
              <a:t>mümkün olduğunca çok duyu organına hitap edecek araçlar kullanılmalıdır.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azı Tahtasını Etkili Olarak Nasıl Kullanalı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zacağınız şeyi tahtaya yazmadan önce söyleyin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Bu ilkenin üç temel yararı bulunmaktadır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öyleme yazmadan hızlıdır. Böylece öğrenci beynin sol yarı küresini kullanarak bilgiyi işlemeye baş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azının başı görülerek yanlış tahmin yapılması önlenir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ahtaya mesajın yazılması sırasında meydana gelen üç-sekiz saniyelik sessizlik bilginin kısa süreli bellekte saklanması için zihinsel tekrar yapma fırsatı verir.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nahtar sözcükler kullanınız- basit şekiller, şemalar çiziniz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ğrencinin anahtar sözcükler ve temel fikirler üstünde odaklaşması için, temel kavramlar ve fikirler arasındaki ilişkiyi çok basit bir biçimde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htada sesli düşünerek şematize ediniz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Kavramlar ve fikirler arasındaki ilişkileri gösterecek şekilde yazınız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Bir konunun ana hatlarının tahtaya yazılması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Örneği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Çekirdek ailedeki birey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1.  A</a:t>
            </a: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2. </a:t>
            </a: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Ba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cc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3. </a:t>
            </a: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Çocu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. Ailedeki büyüklere düşen görev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Şemada verilen bilgiyi işleme modelinde görülen yapılar ve öğrenmeyi sağlayan süreçler aşağıda maddeler halinde özetlenmiştir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Arial"/>
              </a:rPr>
              <a:t>Çevredeki uyarıcıların alıcılar (duyu organları) yoluyla alı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yusal kayıt yoluyla bilginin kaydedilmesi (Duyusal kayı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Dikkat ve seçici algı süreçleri harekete geçirilerek duyusal kayıta gelen bilginin seçilmesi ve kısa süreli belleğe aktarıl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ginin bir müddet kısa süreli bellekte kalabilmesi için zihinsel tekrarın yapılması (Kısa süreli bellek / işleyen bell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Bilginin uzun süreli bellekte depolanabilmesi için kısa süreli bellekte (işleyen bellek) anlamlı kodlamanın yapıl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dlanan bilginin uzun süreli bellekte depo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ilginin uzun süreli bellekten işleyen belleğe geri getirilm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ginin işleyen bellekten yani kısa süreli bellekten tepki üreticiye gönderilm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66"/>
                </a:solidFill>
                <a:latin typeface="Arial"/>
              </a:rPr>
              <a:t>Tepki üreticinin bilgiyi vericilere (kaslara) göndermesi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Öğrencinin performansını gösterm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ürütücü kontrol sistemi tarafından tüm bu süreçlerin kontrol edilmesi, düzenlenmes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Yeni bir şey yazmadan önce, eski ilişkisiz bilgileri tamamen siliniz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çık bir zihin, nasıl temiz bir düşünmeyi sağlıyorsa, aynı şekilde de temiz bir tahta etkili öğrenmeyi sağ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adece yazacak yer kadar silme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ğer tarafları silmeden bırakmak, tahtadaki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ikirlerin, kavramların karışmasına neden ol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u durum ise, dikkati dağıttığından dolayı,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ağ yarı kürenin bilgiyi düzgü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r şekilde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şlemesine engel ol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 algn="just">
              <a:lnSpc>
                <a:spcPct val="100000"/>
              </a:lnSpc>
              <a:spcBef>
                <a:spcPts val="499"/>
              </a:spcBef>
              <a:buClr>
                <a:srgbClr val="cc00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Sonuç olarak, gerek her dershanede bulunabilecek yazı tahtası kullanılsın, gerekse öğrencileri daha çok güdüleyen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deo, televizyon, slayt, bilgisayar, film şeridi vb. görsel araçlar doğru ve etkili kullanılsın öğrencilerin, her tür derste beyinlerinin iki yarı küresini bir arada kullanmalarını sağlamak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 dolayısıyla öğrenmeyi etkili bir şekilde gerçekleştirmek gerek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ns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547640" y="0"/>
            <a:ext cx="60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YUSAL KAY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yusal kayıta gelen sınırsız uyarıcıdan sadece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kk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dil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öğrencinin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eklentile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amaçları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ygun olan az sayıdaki uyarıcı seçilerek kısa süreli belleğe gönderil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Bilginin duyusal kayıttan, kısa süreli belleğe geçişi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İKK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ÇİCİ ALGI </a:t>
            </a: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süreçleri süzgeç görevi yap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u nedenle aralıksız ve monot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ir biçimde üst üste verilen bilgiler, bireyin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ikkat ve algı alanına giremediğin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yusal kayıttan, henüz kısa süreli belleğe aktarılmadan kaybolmaktadı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rneğin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çocuklar tahtadaki şemayı defterlerine çizerken öğretmen bir taraftan şemayı açıklıyorsa, </a:t>
            </a: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çocukların dikkati şemayı çizmeye verilmiş olacağından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, öğretmenin açıklamaları duyusal kayıttan geçip kısa süreli belleğe aktarılama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51"/>
              </a:spcBef>
              <a:buClr>
                <a:srgbClr val="f8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80000"/>
                </a:solidFill>
                <a:latin typeface="Arial"/>
              </a:rPr>
              <a:t>Çünkü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öğrenciler aynı anda sadece bir tür uyarıcı grubuna dikkat edip alabilmekte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ğerlerini elimine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etmekted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SA SÜRELİ BELLEK ( İŞLEYEN BELL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Üç yaşındaki bir çocuğun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kısa süreli belleği sadece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üç birimlik bilgiyi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r-TR" sz="2000" spc="-1" strike="noStrike">
                <a:solidFill>
                  <a:srgbClr val="339933"/>
                </a:solidFill>
                <a:latin typeface="Arial"/>
              </a:rPr>
              <a:t>depolayabilmektedir.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Yedi yaşına kadar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kısa süreli belleğin kapasitesi beş birime yükselmekte; on yaşından sonra da yetişkinlerde olduğu gibi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eş birimle dokuz birim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r-TR" sz="2000" spc="-1" strike="noStrike">
                <a:solidFill>
                  <a:srgbClr val="cc9900"/>
                </a:solidFill>
                <a:latin typeface="Arial"/>
              </a:rPr>
              <a:t>arasında değişmekted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Örneğin;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öğretmenler, bazen ilköğretimin ilk yıllarında çocukların bir parçayı sesli olarak doğru okuyabildiklerini, </a:t>
            </a:r>
            <a:r>
              <a:rPr b="1" i="1" lang="tr-TR" sz="2000" spc="-1" strike="noStrike">
                <a:solidFill>
                  <a:srgbClr val="339933"/>
                </a:solidFill>
                <a:latin typeface="Arial"/>
              </a:rPr>
              <a:t>ancak anlamını kavrayamadıklarını ifade ederler</a:t>
            </a:r>
            <a:r>
              <a:rPr b="1" lang="tr-TR" sz="20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 algn="just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3333ff"/>
                </a:solidFill>
                <a:latin typeface="Arial"/>
              </a:rPr>
              <a:t>Bu durumun nedeni ise; sesli okuma sırasında çocuklar,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ısa süreli belleğin (işleyen belleğin</a:t>
            </a:r>
            <a:r>
              <a:rPr b="1" lang="tr-TR" sz="1800" spc="-1" strike="noStrike">
                <a:solidFill>
                  <a:srgbClr val="3333ff"/>
                </a:solidFill>
                <a:latin typeface="Arial"/>
              </a:rPr>
              <a:t>) kapasitesinin tamamını sözcükleri doğru seslendirme ve telaffuz etmekte kullanmakta, </a:t>
            </a:r>
            <a:r>
              <a:rPr b="1" i="1" lang="tr-TR" sz="1800" spc="-1" strike="noStrike">
                <a:solidFill>
                  <a:srgbClr val="339933"/>
                </a:solidFill>
                <a:latin typeface="Arial"/>
              </a:rPr>
              <a:t>fikirleri anlamak, anlamlandırmak için</a:t>
            </a:r>
            <a:r>
              <a:rPr b="1" lang="tr-TR" sz="1800" spc="-1" strike="noStrike">
                <a:solidFill>
                  <a:srgbClr val="3333ff"/>
                </a:solidFill>
                <a:latin typeface="Arial"/>
              </a:rPr>
              <a:t> yer kalmamaktadır.</a:t>
            </a:r>
            <a:r>
              <a:rPr b="1" lang="tr-TR" sz="24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ısa süreli belleğin kapasitesinin sınırlı olması nedeniyle, sadece sözlü sunuya dayalı derslerde öğrencinin öğrenmesi büyük ölçüde engellenmektedir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Bir birimlik bilgin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kısa süreli bellekten uzun süreli belleğe aktarılmas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10 saniy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akta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rmal bir konuşma hızıyla anlatımda i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bir dakikada 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özcük söylenmekte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şağı yukarı her beş sözcükte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 bir fik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üretilebilmektedi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 durumda öğren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dakikada otuz fik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ni anlamı almakla yükümlü tutulmakta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Öğrenci bu fikir bombardımanı karşısında diyelim ki çok önemli o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15’i ile yüz yüze gelse b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kikada ancak bunların 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altısını işleyerek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uzun süreli belleğe gönderebilecek kapasiteye sahiptir. Durum böyle olunca da, öğrenci geri kalan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 dokuz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önemli fikri alamayacak </a:t>
            </a:r>
            <a:r>
              <a:rPr b="1" i="1" lang="en-US" sz="2000" spc="-1" strike="noStrike">
                <a:solidFill>
                  <a:srgbClr val="ff66ff"/>
                </a:solidFill>
                <a:latin typeface="Arial"/>
              </a:rPr>
              <a:t>kaçıracaktı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karıdaki nedenlerle öğretmenler, açıklamalarını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ürekli ve hızla yapmak yer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öğrencilerin kısa süreli belleklerinde işlem yapmalarına olanak verecek biçimd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yavaş, daha çok ana tekrarlara ve özetlemel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er vererek yapmalıdırl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ular çok kı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öğretmen-öğren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öğrenci-öğrenc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kileşimi daha çok olmalıdı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onunun anlaşılıp anlaşılamadığını kontrol edici sorular sorulup cevaplandırılması sağlanmalıdı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51"/>
              </a:spcBef>
              <a:buClr>
                <a:srgbClr val="ff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erinde ve etkili bir biçimde kullanılaca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ğretim araç ve materyalle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kısa süreli belleğin aşırı yüklenmesini önleyecekt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Örneğin;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yazı tahtasının, tepegöz projektörün, tabloların, grafiklerin, haritaların, slaytların, bilgisayarların, çeşitli kart oyunlarının öğretme-öğrenme ortamında etkili kullanımı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öğrencinin kısa süreli belleğinin kapasitesini etkili bir biçimde kullanabilmesi için gerekli zaman aralıklarını sağlayacaktır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Öğretm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rs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çok ş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latıp öğrencin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çok a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ğrenmesine neden olmak yerine, çok önemli şeyleri seçip öğrenciler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tam olarak öğrenmelerin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ğlamalıdı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Kısa süreli belleğin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gereğinden fazla yüklenmesini önlemek için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alınacak önlemlerden bir diğeri de birey ya da öğrenciy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tomatikli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kazandırmaktı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06:46:54Z</dcterms:created>
  <dc:creator>lab1</dc:creator>
  <dc:description/>
  <dc:language>en-US</dc:language>
  <cp:lastModifiedBy>Leyla</cp:lastModifiedBy>
  <dcterms:modified xsi:type="dcterms:W3CDTF">1999-09-02T12:28:04Z</dcterms:modified>
  <cp:revision>45</cp:revision>
  <dc:subject/>
  <dc:title>ÖĞRENME NASIL OLUŞMAKTADIR? </dc:title>
</cp:coreProperties>
</file>