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EA0-6AC4-47D1-A0BB-67A88E45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F4E-7DAC-4C74-8B5D-3452B2B6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363-278E-4BEF-AAB9-0B2A597A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0FF-7A91-4E9F-8E7E-E81F36A5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4D3-CF7B-4399-AA35-DD40558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E63-C2A5-4490-B192-B14662D6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754-E42C-4C26-B613-52F9463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DD7-91B2-42F4-8CCF-9FEBD315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860-8083-4A05-BA84-8E2ED94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4C4-0430-4631-B0D1-B3BFE85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FA4-3591-44D2-B099-5258119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39E-6DA4-4F42-87CD-5FD2AB8F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A36C-7E90-49E5-A288-71FBCA25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5480" y="11592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620640"/>
            <a:ext cx="10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Ö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R ÇAK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203184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224784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6560" y="11592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619200"/>
            <a:ext cx="10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İ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I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6560" y="203184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24784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11592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620640"/>
            <a:ext cx="1154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ZUNK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203184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0720" y="224784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15920"/>
            <a:ext cx="100944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2560" y="620640"/>
            <a:ext cx="122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RAÇE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2031840"/>
            <a:ext cx="1009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247840"/>
            <a:ext cx="9014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6560" y="11592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620640"/>
            <a:ext cx="1008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Ğ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Ü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6560" y="203184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224784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11592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4560" y="619200"/>
            <a:ext cx="115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Y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BEC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203184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24784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7280" y="11592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19200"/>
            <a:ext cx="1008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Ö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07280" y="203184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24784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5480" y="352908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200" y="3962520"/>
            <a:ext cx="10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Ö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R ÇAK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5480" y="544500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98560" y="566100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52908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3933720"/>
            <a:ext cx="10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İ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I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6560" y="544500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566100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352908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962520"/>
            <a:ext cx="1154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ZUNK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544500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720" y="566100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3529080"/>
            <a:ext cx="100944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2560" y="3962520"/>
            <a:ext cx="122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RAÇE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5445000"/>
            <a:ext cx="10094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5661000"/>
            <a:ext cx="9014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6560" y="352908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3933720"/>
            <a:ext cx="1008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Ğ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Ü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6560" y="544500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566100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352908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4560" y="3933720"/>
            <a:ext cx="115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Y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BEC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544500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566100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7280" y="3529080"/>
            <a:ext cx="1009800" cy="19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3933720"/>
            <a:ext cx="1008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Ö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7280" y="5445000"/>
            <a:ext cx="10098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5661000"/>
            <a:ext cx="9018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0:40:24Z</dcterms:created>
  <dc:creator>EXPER</dc:creator>
  <dc:description/>
  <dc:language>en-US</dc:language>
  <cp:lastModifiedBy>MEB</cp:lastModifiedBy>
  <dcterms:modified xsi:type="dcterms:W3CDTF">2004-03-18T12:46:42Z</dcterms:modified>
  <cp:revision>4</cp:revision>
  <dc:subject/>
  <dc:title>Slayt 1</dc:title>
</cp:coreProperties>
</file>