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36DA-3A24-4B28-B1FC-3CB6E8EF1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115F-2FCF-4D5A-A8B7-4EA21A4C7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DEFE-C0AD-41CE-8B46-6116D2031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424E-B86B-4E39-9389-79FA80BD6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E5AE-692E-4012-A011-8E1649F9D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CD3F-8614-4BB9-A09A-66F567005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2F58-800B-41E9-8CD0-6C55B6D13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336C-F919-4096-A1AA-84503030E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7FD6-80BD-48F6-A4BA-41598EA29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D734-BE66-4E47-97BC-6F4EB21EB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2315-457C-4599-9FD3-F2752AB1A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0D81-9520-4C1F-8D26-35F874C77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AEBAC-7E39-4DDB-9C87-33D123D3FD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92280" y="1547640"/>
            <a:ext cx="1873080" cy="1943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631194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00962"/>
              </a:rPr>
              <a:t>KIR ÇİÇEKLERİ ÖĞRENCİ KURULU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00962"/>
              <a:ea typeface="00962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268280" y="1979640"/>
            <a:ext cx="760680" cy="10144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60280" y="971640"/>
            <a:ext cx="2952720" cy="3095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005360" y="1547640"/>
            <a:ext cx="1873080" cy="1943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631194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00962"/>
              </a:rPr>
              <a:t>KIR ÇİÇEKLERİ ÖĞRENCİ KURULU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00962"/>
              <a:ea typeface="00962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581360" y="1979640"/>
            <a:ext cx="760680" cy="10144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573360" y="971640"/>
            <a:ext cx="2952720" cy="3095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92280" y="6156360"/>
            <a:ext cx="1873080" cy="1942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631194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00962"/>
              </a:rPr>
              <a:t>KIR ÇİÇEKLERİ ÖĞRENCİ KURULU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00962"/>
              <a:ea typeface="00962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1268280" y="6588000"/>
            <a:ext cx="760680" cy="10144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60280" y="5580000"/>
            <a:ext cx="2952720" cy="3095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005360" y="6156360"/>
            <a:ext cx="1873080" cy="1942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631194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00962"/>
              </a:rPr>
              <a:t>KIR ÇİÇEKLERİ ÖĞRENCİ KURULU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00962"/>
              <a:ea typeface="00962"/>
            </a:endParaRPr>
          </a:p>
        </p:txBody>
      </p:sp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4581360" y="6588000"/>
            <a:ext cx="760680" cy="10144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573360" y="5580000"/>
            <a:ext cx="2952720" cy="3095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0T09:31:21Z</dcterms:created>
  <dc:creator>EXPER</dc:creator>
  <dc:description/>
  <dc:language>en-US</dc:language>
  <cp:lastModifiedBy>EXPER</cp:lastModifiedBy>
  <dcterms:modified xsi:type="dcterms:W3CDTF">2003-10-20T09:31:38Z</dcterms:modified>
  <cp:revision>1</cp:revision>
  <dc:subject/>
  <dc:title>Slayt 1</dc:title>
</cp:coreProperties>
</file>