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8A63-F53A-4CEC-ADB0-1F22BA2EA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8ACE-3AA4-4C6C-90DA-0A49CDA6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9C1E-AD42-4663-998A-37E4A824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6372-E664-4DA3-8F3C-FB3B9DC93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232A-193A-4280-83B6-A00343CF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CC31-8A7C-4367-BE22-3B874398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56A4-41B2-48EE-9887-D5EC466D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B30B-4153-4929-9F3E-40B2B29C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5980-5E6D-4F5B-8929-89384DE3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EDDF-FF7D-4557-8DF1-91297E14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DBFF-1DF1-4D94-8DA6-0FC684FA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C8F7-D574-4C18-887B-4605330A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56F9-0303-4990-BA08-570FD8FEC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2160" y="1130400"/>
            <a:ext cx="1326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Y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ÖĞRENCİ KURUL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2200" y="144360"/>
            <a:ext cx="1333440" cy="191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2680" y="1654200"/>
            <a:ext cx="1384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SK:OZAN AT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YRD.:TUFAN BASANÇELEBİ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920" y="1557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2200" y="2060640"/>
            <a:ext cx="133344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0200" y="2205000"/>
            <a:ext cx="100800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3760" y="249228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E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70120" y="1181160"/>
            <a:ext cx="13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İLKÖĞRETİM GENÇLİ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KİBİ ÖĞRENCİ KURUL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62200" y="144360"/>
            <a:ext cx="1333440" cy="191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31240" y="1654200"/>
            <a:ext cx="14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SK:MERVE ÇAYLIOĞL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YRD.:EBRU KARA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8560" y="1557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62200" y="2060640"/>
            <a:ext cx="133344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70200" y="2205000"/>
            <a:ext cx="100800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03760" y="249228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E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06880" y="1125360"/>
            <a:ext cx="1326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INCA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ÖĞRENCİ KURUL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1840" y="144360"/>
            <a:ext cx="1333800" cy="191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71600" y="16542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SK:FATMA KARA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YRD.:GÖZDE NUR ÇAK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38560" y="1557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01840" y="2060640"/>
            <a:ext cx="13338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09840" y="2205000"/>
            <a:ext cx="100800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43400" y="249228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E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1800" y="1130400"/>
            <a:ext cx="1326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 ÇİÇEKLER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ÖĞRENCİ KURUL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1840" y="144360"/>
            <a:ext cx="1333440" cy="191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10880" y="1654200"/>
            <a:ext cx="11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SK:DİDEM MEŞİ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YRD.:AHMET ALY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78200" y="1557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1840" y="2060640"/>
            <a:ext cx="133344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49840" y="2205000"/>
            <a:ext cx="100800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83400" y="249228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E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21440" y="1130400"/>
            <a:ext cx="1326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ILD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ÖĞRENCİ KURUL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81840" y="144360"/>
            <a:ext cx="1333440" cy="191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52680" y="1654200"/>
            <a:ext cx="1409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SK:AYDIN AY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YRD.:MUSTAFA İNCEBACA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8200" y="1557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81840" y="2060640"/>
            <a:ext cx="133344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89840" y="2205000"/>
            <a:ext cx="100800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23040" y="249228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E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1280" y="115920"/>
            <a:ext cx="1126800" cy="1028520"/>
          </a:xfrm>
          <a:custGeom>
            <a:avLst/>
            <a:gdLst>
              <a:gd name="textAreaLeft" fmla="*/ 257040 w 1126800"/>
              <a:gd name="textAreaRight" fmla="*/ 869760 w 1126800"/>
              <a:gd name="textAreaTop" fmla="*/ 234720 h 1028520"/>
              <a:gd name="textAreaBottom" fmla="*/ 793800 h 102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59880" y="268200"/>
            <a:ext cx="685800" cy="6858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62880" y="1130400"/>
            <a:ext cx="1326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ÜNE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ÖĞRENCİ KURUL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23280" y="144360"/>
            <a:ext cx="1333440" cy="191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491960" y="1654200"/>
            <a:ext cx="13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SK:SERPİL KAN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YRD.:ZEYNEP KİRENL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9640" y="1557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23280" y="2060640"/>
            <a:ext cx="133344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31280" y="2205000"/>
            <a:ext cx="100800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764480" y="249228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E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547560" cy="938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835280" y="333360"/>
            <a:ext cx="1152360" cy="709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492360" y="260280"/>
            <a:ext cx="685800" cy="824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932360" y="260280"/>
            <a:ext cx="760320" cy="870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237360" y="189000"/>
            <a:ext cx="1071360" cy="914400"/>
          </a:xfrm>
          <a:prstGeom prst="star5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3840" y="4489560"/>
            <a:ext cx="1326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Y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ÖĞRENCİ KURUL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3880" y="3503520"/>
            <a:ext cx="1333800" cy="191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360" y="5013360"/>
            <a:ext cx="1384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SK:OZAN AT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YRD.:TUFAN BASANÇELEBİ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0600" y="491652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3880" y="5419800"/>
            <a:ext cx="13338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1880" y="5564160"/>
            <a:ext cx="100800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5440" y="585144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E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01800" y="4540320"/>
            <a:ext cx="13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İLKÖĞRETİM GENÇLİ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KİBİ ÖĞRENCİ KURUL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3880" y="3503520"/>
            <a:ext cx="1333440" cy="191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2920" y="5013360"/>
            <a:ext cx="14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SK:MERVE ÇAYLIOĞL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YRD.:EBRU KARA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30240" y="491652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3880" y="5419800"/>
            <a:ext cx="133344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1880" y="5564160"/>
            <a:ext cx="100800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35440" y="585144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E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38560" y="4484520"/>
            <a:ext cx="1326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INCA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ÖĞRENCİ KURUL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33880" y="3503520"/>
            <a:ext cx="1333440" cy="191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3280" y="501336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SK:FATMA KARA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YRD.:GÖZDE NUR ÇAK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0240" y="491652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33880" y="5419800"/>
            <a:ext cx="133344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41520" y="5564160"/>
            <a:ext cx="100836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75080" y="585144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E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3480" y="4489560"/>
            <a:ext cx="1326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 ÇİÇEKLER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ÖĞRENCİ KURUL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73520" y="3503520"/>
            <a:ext cx="1333440" cy="191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2560" y="5013360"/>
            <a:ext cx="11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SK:DİDEM MEŞİ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YRD.:AHMET ALY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10240" y="49165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73520" y="5419800"/>
            <a:ext cx="133344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81520" y="5564160"/>
            <a:ext cx="100800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15080" y="585144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E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53120" y="4489560"/>
            <a:ext cx="1326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ILD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ÖĞRENCİ KURUL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3520" y="3503520"/>
            <a:ext cx="1333440" cy="191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84360" y="5013360"/>
            <a:ext cx="1409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SK:AYDIN AY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YRD.:MUSTAFA İNCEBACA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49880" y="491652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3520" y="5419800"/>
            <a:ext cx="133344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21520" y="5564160"/>
            <a:ext cx="100800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55080" y="585144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E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62960" y="3475080"/>
            <a:ext cx="1127160" cy="1028520"/>
          </a:xfrm>
          <a:custGeom>
            <a:avLst/>
            <a:gdLst>
              <a:gd name="textAreaLeft" fmla="*/ 257040 w 1127160"/>
              <a:gd name="textAreaRight" fmla="*/ 870120 w 1127160"/>
              <a:gd name="textAreaTop" fmla="*/ 234720 h 1028520"/>
              <a:gd name="textAreaBottom" fmla="*/ 793800 h 102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891560" y="3627360"/>
            <a:ext cx="685800" cy="6858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94560" y="4489560"/>
            <a:ext cx="1326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ÜNE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ÖĞRENCİ KURUL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4960" y="3503520"/>
            <a:ext cx="1333440" cy="191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3640" y="5013360"/>
            <a:ext cx="13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SK:SERPİL KAN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YRD.:ZEYNEP KİRENL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91320" y="491652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54960" y="5419800"/>
            <a:ext cx="133344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62960" y="5564160"/>
            <a:ext cx="100800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96520" y="585144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E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787320" y="3548160"/>
            <a:ext cx="547920" cy="938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866960" y="3692520"/>
            <a:ext cx="1152360" cy="709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3524400" y="3619440"/>
            <a:ext cx="685800" cy="824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4964040" y="3619440"/>
            <a:ext cx="760320" cy="870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269040" y="3548160"/>
            <a:ext cx="1071720" cy="914400"/>
          </a:xfrm>
          <a:prstGeom prst="star5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0:40:24Z</dcterms:created>
  <dc:creator>EXPER</dc:creator>
  <dc:description/>
  <dc:language>en-US</dc:language>
  <cp:lastModifiedBy>EXPER</cp:lastModifiedBy>
  <dcterms:modified xsi:type="dcterms:W3CDTF">2003-10-20T11:25:47Z</dcterms:modified>
  <cp:revision>2</cp:revision>
  <dc:subject/>
  <dc:title>Slayt 1</dc:title>
</cp:coreProperties>
</file>