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DAKTILO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KAMERA.WAV" ContentType="audio/x-wav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5.wmf" ContentType="image/x-wmf"/>
  <Override PartName="/ppt/media/image2.png" ContentType="image/png"/>
  <Override PartName="/ppt/media/image10.wmf" ContentType="image/x-wmf"/>
  <Override PartName="/ppt/media/image4.jpeg" ContentType="image/jpeg"/>
  <Override PartName="/ppt/media/image19.jpeg" ContentType="image/jpeg"/>
  <Override PartName="/ppt/media/image6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88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6237360"/>
            <a:ext cx="22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000000"/>
                </a:solidFill>
                <a:latin typeface="Times New Roman"/>
              </a:rPr>
              <a:t>YÖNETİCİNİN VİZYON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392640" y="6165720"/>
            <a:ext cx="3124080" cy="514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7740720" y="6021360"/>
            <a:ext cx="741240" cy="836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66560" y="1123920"/>
            <a:ext cx="821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AKTILO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audio" Target="../media/KAMERA.WAV"/><Relationship Id="rId12" Type="http://schemas.openxmlformats.org/officeDocument/2006/relationships/audio" Target="../media/KAMERA.WAV"/><Relationship Id="rId13" Type="http://schemas.openxmlformats.org/officeDocument/2006/relationships/audio" Target="../media/KAMERA.WAV"/><Relationship Id="rId14" Type="http://schemas.openxmlformats.org/officeDocument/2006/relationships/audio" Target="../media/KAMERA.WAV"/><Relationship Id="rId15" Type="http://schemas.openxmlformats.org/officeDocument/2006/relationships/audio" Target="../media/KAMERA.WAV"/><Relationship Id="rId16" Type="http://schemas.openxmlformats.org/officeDocument/2006/relationships/audio" Target="../media/KAMERA.WAV"/><Relationship Id="rId17" Type="http://schemas.openxmlformats.org/officeDocument/2006/relationships/audio" Target="../media/KAMERA.WAV"/><Relationship Id="rId18" Type="http://schemas.openxmlformats.org/officeDocument/2006/relationships/audio" Target="../media/KAMERA.WAV"/><Relationship Id="rId19" Type="http://schemas.openxmlformats.org/officeDocument/2006/relationships/audio" Target="../media/KAMERA.WAV"/><Relationship Id="rId20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940360" y="1413000"/>
            <a:ext cx="2430360" cy="4233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503856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5974f9"/>
                </a:solidFill>
                <a:latin typeface="Arial"/>
              </a:rPr>
              <a:t>   </a:t>
            </a:r>
            <a:r>
              <a:rPr b="1" lang="tr-TR" sz="5400" spc="-1" strike="noStrike">
                <a:solidFill>
                  <a:srgbClr val="5974f9"/>
                </a:solidFill>
                <a:latin typeface="Arial"/>
              </a:rPr>
              <a:t>SUNUM TEKNİKLERİ </a:t>
            </a:r>
            <a:br>
              <a:rPr sz="5400"/>
            </a:br>
            <a:r>
              <a:rPr b="1" lang="tr-TR" sz="5400" spc="-1" strike="noStrike">
                <a:solidFill>
                  <a:srgbClr val="5974f9"/>
                </a:solidFill>
                <a:latin typeface="Arial"/>
              </a:rPr>
              <a:t>SEMİNER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5974f9"/>
                </a:solidFill>
                <a:latin typeface="Arial"/>
              </a:rPr>
              <a:t>Süleyman KAY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99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Altın Kuralla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066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Arial"/>
              </a:rPr>
              <a:t>7.  </a:t>
            </a:r>
            <a:r>
              <a:rPr b="1" lang="tr-TR" sz="2400" spc="-1" strike="noStrike">
                <a:solidFill>
                  <a:srgbClr val="3333cc"/>
                </a:solidFill>
                <a:latin typeface="Arial"/>
              </a:rPr>
              <a:t>AÇIK İLETİŞİM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YAKLAŞIMI AÇIKLAY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SAHNEYİ CANLANDIR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NLAŞILIR ANA MESAJLAR VERİ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KTİF DİNLEYİ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ÇAM AĞACI TEKNİĞİNİ KULLAN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KONUDAN SAPMAYIN</a:t>
            </a:r>
            <a:r>
              <a:rPr b="1" lang="tr-TR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Arial"/>
              </a:rPr>
              <a:t>8.  KAPANIŞ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ERKEN AYRILMA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TLADIĞINIZDAN BAHSETMEYİ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SÖZÜ ÜZATMAY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99"/>
                </a:solidFill>
                <a:latin typeface="Arial"/>
              </a:rPr>
              <a:t>9.    İDEAL Fİ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ÖZET - ANA MESA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GELECEK İÇİN ÖNER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AKILDA KALICI ÇARPICIL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8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TEŞEKKÜ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1600200"/>
            <a:ext cx="167652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304920"/>
            <a:ext cx="8610480" cy="63244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OVDE" descr=""/>
          <p:cNvPicPr/>
          <p:nvPr/>
        </p:nvPicPr>
        <p:blipFill>
          <a:blip r:embed="rId2"/>
          <a:stretch/>
        </p:blipFill>
        <p:spPr>
          <a:xfrm>
            <a:off x="609480" y="1523880"/>
            <a:ext cx="1676520" cy="1952640"/>
          </a:xfrm>
          <a:prstGeom prst="rect">
            <a:avLst/>
          </a:prstGeom>
          <a:ln w="0">
            <a:noFill/>
          </a:ln>
        </p:spPr>
      </p:pic>
      <p:pic>
        <p:nvPicPr>
          <p:cNvPr id="81" name="ağaç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174600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30492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30492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8080" y="4986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Kurg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295280"/>
            <a:ext cx="9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öv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193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na da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93000" y="318960"/>
            <a:ext cx="264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İzleyicilere bu konun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Neden önemli olduğu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nlatı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71880" y="318960"/>
            <a:ext cx="266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’a.evet ! Demek ki 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Sebeple dinleyelim.El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debileceğim şeyler 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3505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2057400"/>
            <a:ext cx="317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Konunun tanımlan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27760" y="1981080"/>
            <a:ext cx="28130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emel konu / kavram 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emek ki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98760" y="4191120"/>
            <a:ext cx="3178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şağıdaki ana bölüml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ahsedeceğiz . (bölüml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aşlıklar halinde terci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epegöz yada yazı tahtası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çıklayı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419720"/>
            <a:ext cx="31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Konu ile ilgili bütünsel b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akış edinmiş oldum,ga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üz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ğaç copy2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1638360" cy="1981440"/>
          </a:xfrm>
          <a:prstGeom prst="rect">
            <a:avLst/>
          </a:prstGeom>
          <a:ln w="0">
            <a:noFill/>
          </a:ln>
        </p:spPr>
      </p:pic>
      <p:pic>
        <p:nvPicPr>
          <p:cNvPr id="97" name="ağaç copy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738440" cy="205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40" y="60879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25909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50292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3680" y="5375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onu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529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Çam iğnel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666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a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685800"/>
            <a:ext cx="318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Konunun bölümlerini bi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irer anlatın ve alt- unsur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çıklayın / tartışı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685800"/>
            <a:ext cx="3444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İlginç, konuşmacıyı tak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tmek,söylediklerini anlam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kolay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0" y="2529000"/>
            <a:ext cx="3398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Uygun yerlerde örnek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verin,izleyicilerin durum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uyarlanmış gösterim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olaylar sunun.Bunları b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sonraki ana yada yan konu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eçmeden övce yapı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30481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eni anlatıyor,konun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enimle ilgili yönün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nlayabiliyorum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6480" y="5105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u nedenle......konuya bağ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olarak güçlü sonuç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lar yapın veya kunu ile ilg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harekete geçmeye çağırı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5195880"/>
            <a:ext cx="3516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vet bu mantıklı.Davranı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eğiştirmeliyim. Bundan son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öylr yapmalıyı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İyi Bir Sunuş Düzen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3333cc"/>
                </a:solidFill>
                <a:latin typeface="Arial"/>
              </a:rPr>
              <a:t>GİRİ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Sunuşa başlamanın dokuz yolu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Temeli ku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600" spc="-1" strike="noStrike">
                <a:solidFill>
                  <a:srgbClr val="3333cc"/>
                </a:solidFill>
                <a:latin typeface="Arial"/>
              </a:rPr>
              <a:t>GELİŞM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çıklık kazandır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Değer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Geçişl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Mizah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3333cc"/>
                </a:solidFill>
                <a:latin typeface="Arial"/>
              </a:rPr>
              <a:t>KAPANI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e anlatacağınızı söyley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Anlatı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Arial"/>
              </a:rPr>
              <a:t>Ne anlattığınızı söyley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Sunuşun Geliştirilmes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6 ADIMIN ÖZET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KÖŞE TAŞ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ÜRET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GRUPLANDI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OLUŞTU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GÖRSEL MALZ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buClr>
                <a:srgbClr val="99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993300"/>
                </a:solidFill>
                <a:latin typeface="Times New Roman"/>
              </a:rPr>
              <a:t>PR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V="1">
            <a:off x="5364000" y="3573360"/>
            <a:ext cx="79236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3429000"/>
            <a:ext cx="863640" cy="79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771280" y="4941720"/>
            <a:ext cx="100836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869000"/>
            <a:ext cx="1150920" cy="72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41600" y="244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Comic Sans MS"/>
              </a:rPr>
              <a:t>SUNUŞUNUZU PLANLA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440" y="1980720"/>
            <a:ext cx="3814920" cy="1987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85440" y="4106520"/>
            <a:ext cx="3814920" cy="1989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64292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32000" y="2565360"/>
            <a:ext cx="2016000" cy="107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nuş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macın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elirley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2565360"/>
            <a:ext cx="2016000" cy="115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inleyiciy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özümley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5518080"/>
            <a:ext cx="2017800" cy="107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nu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apacağını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eri  öğren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5516640"/>
            <a:ext cx="2089080" cy="115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ikirleriniz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azı ve öncel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ırasına koy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19640" y="4005360"/>
            <a:ext cx="2232000" cy="115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nuşunuz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planlayı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 flipH="1">
            <a:off x="3203640" y="4941720"/>
            <a:ext cx="1008000" cy="7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796000" y="3645000"/>
            <a:ext cx="936720" cy="50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22560" y="3860640"/>
            <a:ext cx="2089440" cy="136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nu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zırl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64000" y="3429000"/>
            <a:ext cx="79200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41600" y="244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0" lang="tr-TR" sz="4400" spc="-1" strike="noStrike">
                <a:solidFill>
                  <a:srgbClr val="3333cc"/>
                </a:solidFill>
                <a:latin typeface="Comic Sans MS"/>
              </a:rPr>
              <a:t>SUNUŞ HAZIRLAM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440" y="1980720"/>
            <a:ext cx="3814920" cy="1987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5440" y="4106520"/>
            <a:ext cx="3814920" cy="1989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642920" y="1981080"/>
            <a:ext cx="381492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300720" y="2492280"/>
            <a:ext cx="2016360" cy="1368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lgi çek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 giri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azı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5373720"/>
            <a:ext cx="1943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Önem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Noktaları 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eçiş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azı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6200" y="5300640"/>
            <a:ext cx="2017800" cy="1368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onu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yazı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2421000"/>
            <a:ext cx="2016360" cy="1368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nuşunuz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eliş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ölümün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sarlayı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24360" y="5013360"/>
            <a:ext cx="79236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8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Sunuma Başlamanın 9 Yolu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066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Bir So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Moral içerikli bir hika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Bir Alınt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Yerel bir Olayla İlgili Du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Merak Uyandıran Bir Cüm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zleyici için Değer Taşıyan Bir Konuda Yo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Kendinizle İlgili Bir Esp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Çarpıcı Bir Cüm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Hemen Konuya Girm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Akılda Kalıcı Bir Sunu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enim Görüşü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Dikkat Çekici Bir Başlangı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Kısa Öyküler Anı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Alıntı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Değer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Görsel Malz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Güçlü Kapanı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073840" y="4724280"/>
            <a:ext cx="353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İşitirim ve Unuturu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Görürüm ve Hatırları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Yaparım ve Anları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İzleyici Katma Teknikler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85204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Tar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öz İletiş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Hare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örsel Malzem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İzleyici Katılım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Sor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öster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Numuneler/Rol Gerçl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İçer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İlg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iza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KTIL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7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Progra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İLETİŞİM BECERİLER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SUNUCULAR İÇİN ALTIN KURAL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ETKİLİ SUNUŞ NASIL HAZIRLANI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DİNLEYİCİLİLERİN KATILIMININ SAĞLANM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GÖRSEL MALZEME KULLAN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SES TONU AYARL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DOĞRU SALON DÜZEN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SORU-CEVAP TEKNİKLER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SUNUŞ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8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Görsel Malzem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ÜYÜK Yazı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</a:rPr>
              <a:t>Vurgulu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ve Güçlü </a:t>
            </a: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Kalın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Yazı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Kısa- Çarpıc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Yazı Karakteri –Yerleştirme tarz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Yazım Hatası Olması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Diaları Prova Ed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S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Anlamsız Sözcük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oğaz Temizle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Fısıldama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Yüksek Sesle Öksürm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Ortam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Arial"/>
              </a:rPr>
              <a:t>Sa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Gün Işı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Havalandırma,Sıc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Gürültü, Akus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Arial"/>
              </a:rPr>
              <a:t>Salon Düzeni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unuş Alan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Balık Sırt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U.Biç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Açık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Yuvarl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Arial"/>
              </a:rPr>
              <a:t>Teknik  Gereçle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Ek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Mikrof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Projektö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Soru – Cevap Teknikleri</a:t>
            </a: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270080"/>
            <a:ext cx="8209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Y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Teşvik 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Dinle - B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Sorudan Fayda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Uza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Toparla – Ka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YAP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İyi bir Soru” D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Gereksiz Tekra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Tartışmayı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Üstten Bakmayı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Tarzınızı Değiştirmey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8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Bundan Sonra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Kademe Kademe hataları Azaltı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Soru/ Cevapla Bitirmey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Son Sözü Siz Söyley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Çarpıcı Biti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Bilginin Doğal Hale Gelmesi İçin Pratik Gerek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916280"/>
            <a:ext cx="698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887480" y="-331920"/>
            <a:ext cx="781308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3333cc"/>
                </a:solidFill>
                <a:latin typeface="Comic Sans MS"/>
              </a:rPr>
              <a:t>          </a:t>
            </a:r>
            <a:r>
              <a:rPr b="0" lang="tr-TR" sz="3600" spc="-1" strike="noStrike">
                <a:solidFill>
                  <a:srgbClr val="3333cc"/>
                </a:solidFill>
                <a:latin typeface="Comic Sans MS"/>
              </a:rPr>
              <a:t>ÖRNEK SUNUŞ NOTLA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135160" y="1269720"/>
            <a:ext cx="675792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İş Aramanın Arkasındaki Gerç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GİRİ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Dikk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uradaki kaç kişi otostop yapmayı biliy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otostop örnekle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eçiş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İş aramak, otostop yapmak gibidi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Ön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BD’deki 8 milyon işs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Orta halli bir Amerikalı,her 3.6 yılda bir işini değiştir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10 yıl önceki sürenin iki kat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(12 yıl içinde iş dünyasına girmiş olacaksını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eçiş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Ne yapacağınızı biliyor musunuz? Birçoğu bilmez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64000" y="765000"/>
            <a:ext cx="446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5400" y="184464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55640" y="1916280"/>
            <a:ext cx="698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95400" y="1916280"/>
            <a:ext cx="660240" cy="825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03640" y="876240"/>
            <a:ext cx="4608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mic Sans MS"/>
              </a:rPr>
              <a:t>GELİ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1743120"/>
            <a:ext cx="831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Arial"/>
              </a:rPr>
              <a:t>Soru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ipik Yaklaş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-İkincil Kaynaklar (reklamlar, kişisel acentel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-Kişisel olmayan ( Belli bir kişiye ait olmay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orm mektupları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-Olumsuz yanları: Bekleme / Zaman kaybı / Kendini özgü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issedememe yeniden başlama duygusu / her gün yapılması gerek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ıkıcı  tekdüzen işlem / davranış durgunluğ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3640" y="126828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5640" y="1916280"/>
            <a:ext cx="698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83600" y="948600"/>
            <a:ext cx="7335360" cy="47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Geçiş:</a:t>
            </a:r>
            <a:br>
              <a:rPr sz="2800"/>
            </a:b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        “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öyle olmak zorunda değil. İkinci bir seçenek var”</a:t>
            </a:r>
            <a:br>
              <a:rPr sz="2800"/>
            </a:b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Çözüm:</a:t>
            </a:r>
            <a:br>
              <a:rPr sz="2800"/>
            </a:b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Alternatif yaklaşım</a:t>
            </a:r>
            <a:br>
              <a:rPr sz="2400"/>
            </a:b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         1) Ana kaynaklar (Kendileri için doğrudan çalıştıklarınız</a:t>
            </a:r>
            <a:br>
              <a:rPr sz="2400"/>
            </a:br>
            <a:br>
              <a:rPr sz="2400"/>
            </a:b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         2) Kişisel görüşmeler 8telofon,Mektup, takip)</a:t>
            </a:r>
            <a:br>
              <a:rPr sz="2400"/>
            </a:b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br>
              <a:rPr sz="2400"/>
            </a:b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         3) Olumlu yönleri: Genişleyen, etkin ve güvenilir ilişkiler/ daha</a:t>
            </a:r>
            <a:br>
              <a:rPr sz="2400"/>
            </a:b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              az kişisel geri çevirme / daha iyi teklif şansı</a:t>
            </a:r>
            <a:br>
              <a:rPr sz="2400"/>
            </a:br>
            <a:br>
              <a:rPr sz="24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Geçiş:</a:t>
            </a:r>
            <a:br>
              <a:rPr sz="2800"/>
            </a:b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         “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İşte başarılı olma yolu ve bu sizin işinize de yarayabilir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41600" y="244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Comic Sans MS"/>
              </a:rPr>
              <a:t>             </a:t>
            </a:r>
            <a:r>
              <a:rPr b="0" lang="tr-TR" sz="4400" spc="-1" strike="noStrike">
                <a:solidFill>
                  <a:srgbClr val="3333cc"/>
                </a:solidFill>
                <a:latin typeface="Comic Sans MS"/>
              </a:rPr>
              <a:t>SONUÇ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944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Times New Roman"/>
              </a:rPr>
              <a:t>Öz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</a:rPr>
              <a:t>           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Öncelikli kaynaklar, kişisel yaklaşımlar ve olumlu yanları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aşlangıçta Bağlantı Ku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Bu yöntemleri kullanın ve yeni bir iş için tekrar” otosto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apmak zorunda kalmayı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735720" y="216000"/>
            <a:ext cx="4625280" cy="5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Comic Sans MS"/>
              </a:rPr>
              <a:t>SUNUŞ ÇİZELGESİ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916280"/>
            <a:ext cx="698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03280" y="1144440"/>
            <a:ext cx="66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İRİ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ikkat toplama ifade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maç ifade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Önem ifadesi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emel konuların belirlenm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32000" y="148428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32000" y="6453360"/>
            <a:ext cx="71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459640" y="1483920"/>
            <a:ext cx="0" cy="496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32000" y="1484280"/>
            <a:ext cx="712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99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Giriş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8280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3333cc"/>
                </a:solidFill>
                <a:latin typeface="Times New Roman"/>
              </a:rPr>
              <a:t>EMİN OLMANIZ GEREKEN KON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MESAJLARINIZ ANLAŞILIYORM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DİNLEYİCİLER  ETKİLENİYORM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3333cc"/>
                </a:solidFill>
                <a:latin typeface="Times New Roman"/>
              </a:rPr>
              <a:t>İKİ DİKKAT EDİLECEK NOK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NASIL SÖYLÜYORSUNU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</a:rPr>
              <a:t>NE SÖYLÜYORSUNUZ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26920" y="1916280"/>
            <a:ext cx="69138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476000" y="476280"/>
            <a:ext cx="6335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GELİ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emel Konu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estekleyici kanı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Geçi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emel Konu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estekleyici kanı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Geçiş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08000" y="1739880"/>
            <a:ext cx="660240" cy="825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1989000"/>
            <a:ext cx="144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698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95400" y="1700280"/>
            <a:ext cx="660240" cy="825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332000" y="981000"/>
            <a:ext cx="68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19280" y="1432080"/>
            <a:ext cx="525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35280" y="1125360"/>
            <a:ext cx="61214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Temel Konu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estekleyici kanı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eçiş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ONU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emel konuların öz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1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2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3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Çağrı yap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755640" y="1989000"/>
            <a:ext cx="6985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12880" y="209520"/>
            <a:ext cx="535968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Görsel Gereç Çizelgesi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403280" y="907560"/>
            <a:ext cx="7129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şağıdakiler, görsel gereçlerinizi hazırlamada yol gösterirler.Her görs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ereç için aşağıdaki soruları kendinize so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Zorunlu mu?                                                                              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ade mi?                                                                                   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üyük mi?                                                                                  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ınıflandırılmış mı?                                                                    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lgi çekici mi?                                                                              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Kilit noktalar numaralandırılmış mı?                                              .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örsel gereçlerle sunuşunuzun uygulamasını yaparken aşağıdaki soruları kullanın.Uyg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Lama bölümünü tamamladıktan sonra bu soruları kendinize sorun (ya da dinleyiciler 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ında arkadaşınızdan bunları cevaplandırmasını istey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unuşun başlangıcında her şey yerli yerinde miydi?                    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Hazır durumda gelmeden herhangi bir görsel gereç gösterdin mi   .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örsel gereçleri önceden sabitledim ya da birine tutturdun mu?      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örsel gereçle değil de dinleyiciyle mi konuştum?                            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Yeteri kadar sesli konuştum mu?                                                       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inleyicinin görüş acısını engelledim mi?                                          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şaret çubuğu kullandım mı?                                                             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unuşu tamamladıktan sonra görsel gereci ortalıktan kaldırdın mı?...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32000" y="907920"/>
            <a:ext cx="0" cy="568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907920"/>
            <a:ext cx="7488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6597720"/>
            <a:ext cx="74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820000" y="981000"/>
            <a:ext cx="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55640" y="1916280"/>
            <a:ext cx="691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49920" y="74880"/>
            <a:ext cx="78627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Ayrıntılı Sunuş Değerlendirme raporu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332000" y="1052280"/>
            <a:ext cx="7416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unucu           ................................ Tarih 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unuş başlığı .............................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inleyici         ................................  Yer 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maç             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I- Ayrıntılı değerlendi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onuşmacı amacıma ulaştı mı? Ned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lilik. Bir tane işaretleyin. 1= zayıf, 5= mükemm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unuş             1      2      3      4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onuşmacı     1      2      3      4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İçerik               1      2      3      4     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II.Sunuş İçeriği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oldaki sütun, sunuşunuzun değişik açılarını sıralar. Her biri için dinleyicid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ağ sütundaki ifadelerden en uygun düşenini seçmelerini istey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95400" y="170028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55640" y="1916280"/>
            <a:ext cx="698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259920"/>
            <a:ext cx="810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A.Giri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1.Dikkat çekici ifade                              Çok kısa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ikkat çekmedi          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ygunsuz                   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ikkat uyandırdı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2.Tez                                                     Kayıp     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ksik    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çık değil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çık ve net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3.Önem ifadesi                                      Kayıp    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kısa                     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uzun                    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ygun                         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4.Genel bakış                                        Kayıp                          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kısa                     .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uzun                     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onular  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ıralanmamış              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ygun                          .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755640" y="1916280"/>
            <a:ext cx="7056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836640"/>
            <a:ext cx="79819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5.Geçiş                                    Kayıp               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Çok kısa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Çok uzun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Uygun   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B.Geli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1.Temel Konular                        Kayıp              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çık değil        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Çok az   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Çok fazla         .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Uygun   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2.Düzenleme                              Kayıp    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çık değil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Yetersiz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çık     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Mantıklı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tkili               ....................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5640" y="1916280"/>
            <a:ext cx="698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770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3.Destekleyici veriler                             Kayıp  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Yetersiz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siz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Yeterli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eşitli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li 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4.işitsel- görsel gereçler                       Etkisiz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fazla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İyi düzenlenmemiş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az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li   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5.Geçişler                                             Kayıp 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kısa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uzun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ygun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95400" y="170028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55640" y="1916280"/>
            <a:ext cx="698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63272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tr-TR" sz="2000" spc="-1" strike="noStrike">
                <a:solidFill>
                  <a:srgbClr val="000000"/>
                </a:solidFill>
                <a:latin typeface="Times New Roman"/>
              </a:rPr>
              <a:t>C.Sonu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1.Özet                                         Kayıp                                       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kısa                                  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uzun                                 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Yeni bilgi                                 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li                                        ......................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2.Yeniden inceleme                    Kayıp  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siz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Konular sıralanış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kılda kalıcı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3.Etki                                           Kayıp 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çık değil                               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şırı                                       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Uygun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4.Kapanış ifadesi                         Zayıf   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siz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Planlanmamış                        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çık   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li                                      .................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üçlü                                    .......................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5400" y="170028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55640" y="1916280"/>
            <a:ext cx="698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764640"/>
            <a:ext cx="81266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5.Soruları cevaplama                     Hazırlanmamış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oruları reddetme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sert ve kısa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elirsiz       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Tutarsız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li    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III.Anlatılış Tarz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.Kişisel Özellik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1.Coşku                                          Kayıp           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Zayıf      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nerjik değil 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Heyecanlandırıcı                               ...................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ulaşıcı 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2.Empati                                         Kayıp    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lgisiz     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oğuk                                                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evecen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çten             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3.Kişilik                                           Öğretici değil                                    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ert             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resmi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yi                                                      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ana yakın                                       ........................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1916280"/>
            <a:ext cx="698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7720" y="907920"/>
            <a:ext cx="8055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B.Ses Özellik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1.Şiddet                                    Çok sessiz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sesli        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eğişken değil                               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Uygun                                             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2. Hız                                       Çok yavaş    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hızlı                                         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eğişken geğil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yi                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3. Perde                                    Çok Yüksek 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eğişken değil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Tek düze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eğişken ve uygun                       ...........................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4. Kelime seçimi                       Uygunsuz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ade       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nlaşılması zor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Mesleki sorunlar var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yi      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li  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-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95400" y="170028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87280" y="2060640"/>
            <a:ext cx="691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800" spc="-1" strike="noStrike">
                <a:solidFill>
                  <a:srgbClr val="000000"/>
                </a:solidFill>
                <a:latin typeface="Verdana"/>
              </a:rPr>
              <a:t>İnsan bilmediği tecrübe etmediği şeylerden kork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55640" y="1916280"/>
            <a:ext cx="7056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7720" y="836280"/>
            <a:ext cx="8055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5.Sesletim                                      Zayıf                                             ........................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iddi yanlışlar                                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Uygun        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6.Telaffuz                                        Mırıldanma 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Yarım yamalak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Kapalı ağız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çık ağız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çık ve net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oğru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7. Ton                                                Rahatsız edici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celeci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eğişken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akinleştirici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tkili   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8. Çatallanma                                     Aşırı   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inirlendirici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elirgin          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az                                           ...........................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dare edilebilir                                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Fark edilmez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55640" y="1916280"/>
            <a:ext cx="691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8080" y="907920"/>
            <a:ext cx="8126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C.Sü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unuş Süresi                           Çok uzun    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kısa                 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üre sınırları içinde                                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IV.Sözlü olmayan anlatım tarz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.Giysi                                     Uygunsuz          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elişigüzel         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resmi          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Uygun                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.Gülümseme                           Kayıp                                                       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inirli                                                       ...........................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Var                                                          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oğal                                                       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.Göz teması                             Yetersiz                                                    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eçici                                                       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ınırlı                                                       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Uygun                                                     .............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Çok şık                                                    ...............................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755640" y="1916280"/>
            <a:ext cx="698508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909720"/>
            <a:ext cx="798192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.Duruş                                   Sade                                        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Yarım yamalak                        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ert                                        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eğişken                                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şırı hareketler                       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ik         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.El-kol hareketleri                  Kayıp     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ınırlı                                      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Zoraki    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oğal     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ygun    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Hareketli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F.Üslup                                    Aşırı                                        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enetimsiz                               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ınırlı           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Belirgin değil                            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55640" y="1916280"/>
            <a:ext cx="691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909360" y="404280"/>
            <a:ext cx="81262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V.İletişimsel Yöntem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.Dinleyici                         İlgili             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ınırlı değil 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atılım sağlanmış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Heyecanlı   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B.Açıklık düzeyi                 Kafa karıştırıcı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Belirsiz tutarsız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onular sıralanmış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çık düzenleme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C.Mizah                              Uygunsuz    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Aşırı            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siz         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ygun         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li            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D.Mantıklı yaklaşım            Etkisiz kanıtlar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ok az        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tkili kanıtlar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55640" y="1916280"/>
            <a:ext cx="691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049040"/>
            <a:ext cx="81266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E.Psikolojik yaklaşım            Konuşmacının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htiyaçlarına odaklanmış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Bazı dinleyicile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htiyaçlarına odaklanmış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Tüm dinleyiciler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htiyaçlarına odaklanmış       ...................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F.Kişisel yaklaşım                  Sinirli     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açamak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özü geçer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oğuk    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Savunmacı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Çekingen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Güvenilir                                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Kendinden emin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Olumlu                                 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İnandırıcı                             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95400" y="162864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755640" y="1916280"/>
            <a:ext cx="705636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179208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G.Duygusal yaklaşım              Uygunsuz                              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Cesaretlendirme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Uzak               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Hareketli                               ..............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Başka yorumlarınız varsa lütfen söyleyini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95400" y="1700280"/>
            <a:ext cx="660240" cy="8254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55640" y="1916280"/>
            <a:ext cx="6912000" cy="43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971640" y="406080"/>
            <a:ext cx="79214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Tarzınızı Tanımlama Çizelge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şağıdaki çizelgede, üzerinde çalışacağımız bölümleri  gözden geçir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Sonra sunuşunuzun başka bir uygulamasını prova  edin ve göz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eçirdiklerinizi bazılarını deney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1.Sözlü İletişim Yöntemleri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. Sohbet eder gibi konuşmaya çalışın                                                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. Düzenlemenizi belirtin                                                                      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. Coşkulu olun                                                                                    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. Kişiliğinizi gösterin                                                                            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. Sesinizin şiddetini denetleyin                                                            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F. Konuşma hızınızı denetleyin                                                             ...............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G. Sözcüklerinizi dikkatli seçim                                                             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İ. Yinelenen sözcükleri gözlemleyin                                                     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2.Sözsüz İletişim Yöntemleri:         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. Gülümsemeyi unutmayın                                                                  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. Göz teması kurun                                                                             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. El hareketlerini kullanın                                                                    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E. Etrafta dolaşın                                                                                  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3.Dinleyici Denetleme Yöntemleri:                                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A. Dinleyicilerle konuşun                                                                       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B. Konuyu dağıtmaktan kaçının                                                            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C. Dinleyicinin dikkatini yeniden kazanın                                              .................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600" spc="-1" strike="noStrike">
                <a:solidFill>
                  <a:srgbClr val="000000"/>
                </a:solidFill>
                <a:latin typeface="Times New Roman"/>
              </a:rPr>
              <a:t>D. Empati gösterin                                                                                 ............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22400" y="1773360"/>
            <a:ext cx="633240" cy="79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763640" y="83664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63640" y="659772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755640" y="1916280"/>
            <a:ext cx="705636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7659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Öncelikli Düzenlemeler Çizelge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Bu planlama çizelgesini, sunuş günü, sunuşunuzu yapark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her şeyin yerli yerinde olduğundan emin olmak için gözden geçir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Toplantı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Tarih ve saat.................................................Oda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Tahmin edilen numara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Oturma Düze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Oditoryum..........Sınıf........Resmi olmayan.......U-biçimi.....diğer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Oda ve Donanım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Elverişli                          Gerekli değil              Dikkat gerektir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Sandalye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Masalar.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Aydınlatma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Havalandırma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Televizyon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Müzik setleri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Kül tablaları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Kalemler....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Karalama kağıtları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Ad kartları..............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Kahve, içecekler, su..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Yardımcı Destek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Elektrik  ayrıntıları........................................................................................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İşitsel-görsel donanım......................................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tr-TR" sz="1400" spc="-1" strike="noStrike">
                <a:solidFill>
                  <a:srgbClr val="000000"/>
                </a:solidFill>
                <a:latin typeface="Times New Roman"/>
              </a:rPr>
              <a:t>Diğer Gereç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Tebeşir,Silgi,keçeli kalemler kaset...................................................................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Dinleyici bildirisi.................................................................................................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5400" y="1773360"/>
            <a:ext cx="660240" cy="825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90720" y="102564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53352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76360" y="6669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24680" y="1025640"/>
            <a:ext cx="0" cy="58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29174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6600" spc="-1" strike="noStrike">
                <a:solidFill>
                  <a:srgbClr val="3333cc"/>
                </a:solidFill>
                <a:latin typeface="Times New Roman"/>
              </a:rPr>
              <a:t>Teşekkürl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99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İletişim Becerileri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6560" y="1341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1- DURUŞ / HARE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ESAS DURUŞ - HAZIR DURU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* HARE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2- JEST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* BETiMLEYEN JES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VURGULAYAN JES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</a:rPr>
              <a:t>* KENDİNE YÖNELİK JEST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3- YÜZ İFADELER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4- UYUMLU BEDEN DİL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8680" y="14097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KAFESTE AS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661000" y="2023920"/>
            <a:ext cx="3124080" cy="163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67680" y="186696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BÜYÜK REİ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18200" y="1643040"/>
            <a:ext cx="1455840" cy="296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62560" y="232416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DENİZC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280120" y="2023920"/>
            <a:ext cx="3230640" cy="2103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37800" y="278136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STEP DAN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94520" y="2786040"/>
            <a:ext cx="1884240" cy="185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99000" y="3238560"/>
            <a:ext cx="24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AYAK OYNAT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6423120" y="3471840"/>
            <a:ext cx="2286000" cy="2139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42040" y="369576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RAHİ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6499080" y="2938320"/>
            <a:ext cx="839880" cy="2916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44560" y="412596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VO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6804000" y="1795320"/>
            <a:ext cx="1970280" cy="2895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4400" y="46101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SİHİRB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5432400" y="3776760"/>
            <a:ext cx="2178000" cy="2185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07280" y="5040360"/>
            <a:ext cx="28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6600"/>
                </a:solidFill>
                <a:latin typeface="Arial Black"/>
              </a:rPr>
              <a:t>GİYSİ İLE OYN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5796000" y="2565360"/>
            <a:ext cx="1538280" cy="3124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Yanlış Alışkanlıkla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K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3" dur="1" fill="hold"/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8680" y="198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İletişim Beceril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5- DİL VE ANLAMSIZ SÖZCÜK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6- GÖZ TEM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7- MİZ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8- GİYİM - DIŞ GÖRÜNÜ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9- DOĞALLI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Altın Kuralla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GENEL HAZIRLI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KONUNUZU BİLİ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BİLGİNİZİ GÜNCELLEŞTİRİ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Ş ÖNCESİ HAZIRLIK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İZLEYİCİLERİ TANIY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ÇIK VE NET HEDEF BELİRLEYİ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DEĞERLER-UYARLANMIŞ   ÖRNEKLER KULLAN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CUNUN ROLÜ VE TUTUMU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SORUMLULUK A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GÜVEN OLUŞTU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99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3333cc"/>
                </a:solidFill>
                <a:latin typeface="Times New Roman"/>
              </a:rPr>
              <a:t>Altın Kurallar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26792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4.  DİKKATLERİ YAKALAYI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İLK DÖRT DAKİ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ÇEŞİTLİLİ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ÇARPICI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5.  KONTROLÜ ELİNİZDE TUTU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ÖNLEM A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AŞIRI HEVESLİLERİ KONTROL  ALTINDA TUT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cc"/>
                </a:solidFill>
                <a:latin typeface="Times New Roman"/>
              </a:rPr>
              <a:t>6.  OLUMLU HAVA OLUŞTURU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14:58:01Z</dcterms:created>
  <dc:creator>İbrahim ATAMAN</dc:creator>
  <dc:description/>
  <dc:language>en-US</dc:language>
  <cp:lastModifiedBy>Semra Taştepe</cp:lastModifiedBy>
  <dcterms:modified xsi:type="dcterms:W3CDTF">2002-06-26T19:12:24Z</dcterms:modified>
  <cp:revision>56</cp:revision>
  <dc:subject/>
  <dc:title>Slayt Başlığı Yok</dc:title>
</cp:coreProperties>
</file>