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9.png" ContentType="image/png"/>
  <Override PartName="/ppt/media/image12.wmf" ContentType="image/x-wmf"/>
  <Override PartName="/ppt/media/image18.wmf" ContentType="image/x-wmf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2E3-435F-4241-B659-636B62E7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F8F-D824-4088-91B4-9149BAD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1F4-6152-425A-9BA7-0BD97EA0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71F-3915-4993-9EE0-FA93E354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6F9-0431-4287-A3CE-5F622D13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5C99-70AA-4D65-8183-44A5B17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079C-C0A6-495E-982E-DAA8E8F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0757-09F2-4A1D-9D88-642EAF4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A1B-2CE8-4756-9D3A-B41F34A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33BB-5E99-4AA1-99EF-A3FE4C7D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C7E6-B1C9-4FBD-B7C3-B5A7889C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8E9-ED94-4CBA-8BD7-FEAB3BC5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14A6-9AA5-4458-87EC-D0E77680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9C92-59A4-4CAB-8689-9EC7D481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0366-71DE-4F9A-9D6B-2277D69B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D0C-D0FA-4006-8AF6-A41840D3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7218-C158-4791-B55E-333B5D22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3E4-BFF1-44AF-B640-4D1648F8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986-9EC7-4F17-8608-745C796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1B3-E434-4F66-9826-3962C0F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E18-B5CF-42F8-8072-48E0767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AFF-1985-4B3C-A459-834A14D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2C4-1E69-4A63-8BA3-3F1AA83A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415-396C-4960-BA0B-DA394D57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252-1A0D-4872-9710-3F2089C95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4C3B-54C6-4D2F-8545-8D3DEFB19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24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8800" spc="-1" strike="noStrike">
                <a:solidFill>
                  <a:srgbClr val="000099"/>
                </a:solidFill>
                <a:latin typeface="Tahoma"/>
              </a:rPr>
              <a:t>TOPLANTI YÖNETİMİ</a:t>
            </a:r>
            <a:endParaRPr b="0" lang="en-US" sz="8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 Black"/>
              </a:rPr>
              <a:t>TOPLANTI YERİNİN NİTELİKLERİ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98072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YETERLİ KAPASİ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YDINLAT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SSİZLİ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ONAN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6716_" descr=""/>
          <p:cNvPicPr/>
          <p:nvPr/>
        </p:nvPicPr>
        <p:blipFill>
          <a:blip r:embed="rId1"/>
          <a:stretch/>
        </p:blipFill>
        <p:spPr>
          <a:xfrm>
            <a:off x="0" y="1600200"/>
            <a:ext cx="2284560" cy="2381400"/>
          </a:xfrm>
          <a:prstGeom prst="rect">
            <a:avLst/>
          </a:prstGeom>
          <a:ln w="0">
            <a:noFill/>
          </a:ln>
        </p:spPr>
      </p:pic>
      <p:pic>
        <p:nvPicPr>
          <p:cNvPr id="114" name="HH01515A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115" name="BS00580_" descr=""/>
          <p:cNvPicPr/>
          <p:nvPr/>
        </p:nvPicPr>
        <p:blipFill>
          <a:blip r:embed="rId3"/>
          <a:stretch/>
        </p:blipFill>
        <p:spPr>
          <a:xfrm>
            <a:off x="5257800" y="3389400"/>
            <a:ext cx="388620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 Black"/>
              </a:rPr>
              <a:t>TOPLANTININ YÜRÜTÜLMES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ahoma"/>
              </a:rPr>
              <a:t>DİKKAT EDİLMESİ GEREKENLE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amanında gelme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çık, yalın anlaşılır olmal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ydınlatıcı, otoriter ve esprili olmal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arafsız olmal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er an kontrolü elinde tutmal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 Black"/>
              </a:rPr>
              <a:t>KATILIMCI TİPLER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BRA KONUŞAN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ATİP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TIŞMA TARAFTARLAR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OK EDİCİ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YKUC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ECRÜBELİ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E03257A" descr=""/>
          <p:cNvPicPr/>
          <p:nvPr/>
        </p:nvPicPr>
        <p:blipFill>
          <a:blip r:embed="rId1"/>
          <a:stretch/>
        </p:blipFill>
        <p:spPr>
          <a:xfrm>
            <a:off x="7543800" y="1371600"/>
            <a:ext cx="141912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WB01361_" descr=""/>
          <p:cNvPicPr/>
          <p:nvPr/>
        </p:nvPicPr>
        <p:blipFill>
          <a:blip r:embed="rId2"/>
          <a:stretch/>
        </p:blipFill>
        <p:spPr>
          <a:xfrm>
            <a:off x="304920" y="4876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122" name="PE02086A" descr=""/>
          <p:cNvPicPr/>
          <p:nvPr/>
        </p:nvPicPr>
        <p:blipFill>
          <a:blip r:embed="rId3"/>
          <a:stretch/>
        </p:blipFill>
        <p:spPr>
          <a:xfrm>
            <a:off x="0" y="1981080"/>
            <a:ext cx="1676520" cy="1457280"/>
          </a:xfrm>
          <a:prstGeom prst="rect">
            <a:avLst/>
          </a:prstGeom>
          <a:ln w="0">
            <a:noFill/>
          </a:ln>
        </p:spPr>
      </p:pic>
      <p:pic>
        <p:nvPicPr>
          <p:cNvPr id="123" name="BD06784_" descr=""/>
          <p:cNvPicPr/>
          <p:nvPr/>
        </p:nvPicPr>
        <p:blipFill>
          <a:blip r:embed="rId4"/>
          <a:stretch/>
        </p:blipFill>
        <p:spPr>
          <a:xfrm>
            <a:off x="6858000" y="4648320"/>
            <a:ext cx="1819440" cy="168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 Black"/>
              </a:rPr>
              <a:t>KATILIMCI TİPLER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UP LİDERLER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ŞTİRİ HASTALAR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ÜSKÜNL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ARAMSAR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A BULUC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ELECİ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BS02064_" descr=""/>
          <p:cNvPicPr/>
          <p:nvPr/>
        </p:nvPicPr>
        <p:blipFill>
          <a:blip r:embed="rId1"/>
          <a:stretch/>
        </p:blipFill>
        <p:spPr>
          <a:xfrm>
            <a:off x="0" y="1874880"/>
            <a:ext cx="1981080" cy="1971720"/>
          </a:xfrm>
          <a:prstGeom prst="rect">
            <a:avLst/>
          </a:prstGeom>
          <a:ln w="0">
            <a:noFill/>
          </a:ln>
        </p:spPr>
      </p:pic>
      <p:pic>
        <p:nvPicPr>
          <p:cNvPr id="127" name="BD07153_" descr=""/>
          <p:cNvPicPr/>
          <p:nvPr/>
        </p:nvPicPr>
        <p:blipFill>
          <a:blip r:embed="rId2"/>
          <a:stretch/>
        </p:blipFill>
        <p:spPr>
          <a:xfrm>
            <a:off x="6662880" y="3276720"/>
            <a:ext cx="2481120" cy="2716200"/>
          </a:xfrm>
          <a:prstGeom prst="rect">
            <a:avLst/>
          </a:prstGeom>
          <a:ln w="0">
            <a:noFill/>
          </a:ln>
        </p:spPr>
      </p:pic>
      <p:pic>
        <p:nvPicPr>
          <p:cNvPr id="128" name="BD06790_" descr=""/>
          <p:cNvPicPr/>
          <p:nvPr/>
        </p:nvPicPr>
        <p:blipFill>
          <a:blip r:embed="rId3"/>
          <a:stretch/>
        </p:blipFill>
        <p:spPr>
          <a:xfrm>
            <a:off x="0" y="4537080"/>
            <a:ext cx="22701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TOPLANTI TUTANAĞ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plantıya katılan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tışılan kon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laşmaya varılan kon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ylem ve eylemlerden sorumlu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r sonraki toplant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şekkü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D05584_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589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99"/>
                </a:solidFill>
                <a:latin typeface="Tahoma"/>
                <a:ea typeface="Times New Roman"/>
              </a:rPr>
              <a:t>ÇATI</a:t>
            </a:r>
            <a:r>
              <a:rPr b="1" i="1" lang="en-US" sz="8800" spc="-1" strike="noStrike">
                <a:solidFill>
                  <a:srgbClr val="000099"/>
                </a:solidFill>
                <a:latin typeface="Tahoma"/>
              </a:rPr>
              <a:t>Ş</a:t>
            </a:r>
            <a:r>
              <a:rPr b="1" i="1" lang="en-US" sz="8800" spc="-1" strike="noStrike">
                <a:solidFill>
                  <a:srgbClr val="000099"/>
                </a:solidFill>
                <a:latin typeface="Tahoma"/>
                <a:ea typeface="Times New Roman"/>
              </a:rPr>
              <a:t>MA YÖNETİMİ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5104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ÇATIŞMANIN TANIMI</a:t>
            </a:r>
            <a:r>
              <a:rPr b="0" lang="en-US" sz="4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rsızlı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yuşmazlı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İ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E02097_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5105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01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ÇATIŞMANIN NEDENLER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İş bölüm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Karşılıklı bağımlılı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rtak karar ve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lgılama farklılığ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maç farklılığ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Uzmanlaş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BS00865A" descr=""/>
          <p:cNvPicPr/>
          <p:nvPr/>
        </p:nvPicPr>
        <p:blipFill>
          <a:blip r:embed="rId1"/>
          <a:stretch/>
        </p:blipFill>
        <p:spPr>
          <a:xfrm>
            <a:off x="5181480" y="2819520"/>
            <a:ext cx="3124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44856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Times New Roman"/>
              </a:rPr>
              <a:t>ÇATIŞMANIN YÖNETİLMES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çöz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ynakların arttırılmas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çın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umuşat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laştır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tki kullanm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0"/>
            <a:ext cx="2286000" cy="1752480"/>
          </a:xfrm>
          <a:prstGeom prst="uturnArrow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133720" cy="1752480"/>
          </a:xfrm>
          <a:prstGeom prst="uturnArrow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ÇATIŞMANIN YÖNETİLMES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Politik yaklaşım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Hakeme başvurma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Yapısal değişkenleri değiştirme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Davranış değiştirm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2133720" cy="1752480"/>
          </a:xfrm>
          <a:prstGeom prst="uturnArrow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129528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İş ya da meslek konusunda görüşmek üzere, iki ya da daha fazla sayıda bireyin bir araya gelmesi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cc"/>
                </a:solidFill>
                <a:latin typeface="Tahoma"/>
              </a:rPr>
              <a:t>TOPLANTI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2" name="PE01561_" descr=""/>
          <p:cNvPicPr/>
          <p:nvPr/>
        </p:nvPicPr>
        <p:blipFill>
          <a:blip r:embed="rId1"/>
          <a:stretch/>
        </p:blipFill>
        <p:spPr>
          <a:xfrm>
            <a:off x="4560840" y="3816360"/>
            <a:ext cx="4583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5e46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DİKKAT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Açık kapı bırak;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- Danış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- Şikayet kutular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- Mülak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- An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D06663_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276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590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00"/>
                </a:solidFill>
                <a:latin typeface="Tahoma"/>
              </a:rPr>
              <a:t>“</a:t>
            </a:r>
            <a:r>
              <a:rPr b="1" i="1" lang="en-US" sz="4800" spc="-1" strike="noStrike">
                <a:solidFill>
                  <a:srgbClr val="006600"/>
                </a:solidFill>
                <a:latin typeface="Tahoma"/>
              </a:rPr>
              <a:t>EĞER BİR ŞEY YAPMAK İSTEMİYORSANIZ ,YADA YAPACAK  BİR ŞEYİNİZ YOKSA TOPLANTI YAPMANIZ KAÇINILMAZDIR.”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564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EDEN ETKİN TOPLANTI ;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İYİ BİR İLETİŞİM ARACI OLAR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SORUN ÇÖZME ARACI OLAR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EKİP ÇALIŞMASI SAĞLA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ÖRGÜTSEL ÖĞRENME 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YÖNETİME KATILI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İŞTEN DOYUM ARACI OLARAK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TOPLANTI TÜRLER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1911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BİLGİLENDİRME AMAÇ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YÖNLENDİRİC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MESLEKİ TOPLANTI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DANIŞMA TOPLANTIL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DEĞERLENDİRME TOPLANTIL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6. KOMİSYON TOPLANTIL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7. MÜZAKERE TOPLANTILAR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8. SORUN ÇÖZME TOPLANTILAR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TOPLANTI TÜRLERİ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1" name="BD04972_" descr=""/>
          <p:cNvPicPr/>
          <p:nvPr/>
        </p:nvPicPr>
        <p:blipFill>
          <a:blip r:embed="rId1"/>
          <a:stretch/>
        </p:blipFill>
        <p:spPr>
          <a:xfrm>
            <a:off x="4572000" y="4038480"/>
            <a:ext cx="42958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66880"/>
            <a:ext cx="525780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Toplantıyı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aşlat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Yapılandır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Yöne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BAŞKAN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PE01846_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5105160" cy="297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00400" y="1447920"/>
            <a:ext cx="3429000" cy="2209680"/>
          </a:xfrm>
          <a:custGeom>
            <a:avLst/>
            <a:gdLst>
              <a:gd name="textAreaLeft" fmla="*/ 614160 w 3429000"/>
              <a:gd name="textAreaRight" fmla="*/ 2414520 w 3429000"/>
              <a:gd name="textAreaTop" fmla="*/ 295920 h 2209680"/>
              <a:gd name="textAreaBottom" fmla="*/ 191376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40" hR="21600" stAng="10800000" swAng="5400000"/>
                <a:lnTo>
                  <a:pt x="11340" y="0"/>
                </a:lnTo>
                <a:arcTo wR="7740" hR="21600" stAng="-5400000" swAng="2723082"/>
                <a:lnTo>
                  <a:pt x="21157" y="14400"/>
                </a:lnTo>
                <a:lnTo>
                  <a:pt x="17280" y="21600"/>
                </a:lnTo>
                <a:lnTo>
                  <a:pt x="12517" y="14400"/>
                </a:lnTo>
                <a:lnTo>
                  <a:pt x="15037" y="14400"/>
                </a:lnTo>
                <a:arcTo wR="7740" hR="21600" stAng="-2676918" swAng="-2429245"/>
                <a:lnTo>
                  <a:pt x="9540" y="592"/>
                </a:lnTo>
                <a:arcTo wR="7740" hR="21600" stAng="-5693837" swAng="-5106163"/>
                <a:close/>
              </a:path>
              <a:path fill="darkenLess" w="21600" h="21600">
                <a:moveTo>
                  <a:pt x="0" y="21600"/>
                </a:moveTo>
                <a:arcTo wR="7740" hR="21600" stAng="10800000" swAng="5400000"/>
                <a:lnTo>
                  <a:pt x="7740" y="0"/>
                </a:lnTo>
                <a:arcTo wR="7740" hR="21600" stAng="-5400000" swAng="293837"/>
                <a:lnTo>
                  <a:pt x="9540" y="592"/>
                </a:lnTo>
                <a:arcTo wR="7740" hR="21600" stAng="-5693837" swAng="-5106163"/>
                <a:close/>
              </a:path>
            </a:pathLst>
          </a:cu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Arial Black"/>
              </a:rPr>
              <a:t>TOPLANTI İÇİN GEREKÇE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74320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uruluş toplantısız işleyeme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Çeşitli bölümler iletişim kurama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rtak sorunlar çözüleme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4896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TOPLANTI HAZIRLIĞI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OPLANTININ AM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Ü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UYU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) Tarihi, saati, yer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) Kon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) Katılımcıl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0559_" descr=""/>
          <p:cNvPicPr/>
          <p:nvPr/>
        </p:nvPicPr>
        <p:blipFill>
          <a:blip r:embed="rId1"/>
          <a:stretch/>
        </p:blipFill>
        <p:spPr>
          <a:xfrm>
            <a:off x="4548240" y="4251240"/>
            <a:ext cx="459576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06:29:26Z</dcterms:created>
  <dc:creator>Mess</dc:creator>
  <dc:description/>
  <dc:language>en-US</dc:language>
  <cp:lastModifiedBy>Betül AKKURT</cp:lastModifiedBy>
  <cp:lastPrinted>2000-10-11T13:40:50Z</cp:lastPrinted>
  <dcterms:modified xsi:type="dcterms:W3CDTF">2001-05-15T07:39:32Z</dcterms:modified>
  <cp:revision>59</cp:revision>
  <dc:subject/>
  <dc:title>“BU TOPLANTI GEREKSİZDİ”</dc:title>
</cp:coreProperties>
</file>