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A06-F23C-4BBA-B6D5-6209AE92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55E9-EA09-49FB-8E00-44ADF20D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DD75-475F-46D9-81E8-D7BE75BB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EB6-317F-461D-B2F3-10D83949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C2F-43E0-4E0F-AE38-EA47EF55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5A9F-AA25-4EF8-BE80-BB731144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4EB3-3E26-49A4-9E2E-ECD2461D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7635-6C17-46A4-9653-BE37B866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470-D377-4379-B092-CCD08A75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25B-1369-4B47-8A04-401A68E1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D14-D370-4262-AF7B-F8430578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5C2-78BA-462C-AC46-6A83BB70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172200" y="228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TOPLANTI YÖNETİMİ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5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DAC1-FC24-4E3A-80CD-DC449C9E4EFA}" type="slidenum">
              <a:rPr b="0" lang="tr-T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71560" y="2271600"/>
            <a:ext cx="8277120" cy="990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ff3300"/>
            </a:solidFill>
            <a:miter/>
          </a:ln>
          <a:effectLst>
            <a:outerShdw dist="153753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1480" y="2314440"/>
            <a:ext cx="8458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7a"/>
                </a:solidFill>
                <a:latin typeface="Arial Black"/>
              </a:rPr>
              <a:t>TOPLANTI YÖNETİMİ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1295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ÇATIŞMANIN YÖNETİLMESİ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2438280"/>
            <a:ext cx="609588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aeaea"/>
                </a:solidFill>
                <a:latin typeface="Arial Narrow"/>
              </a:rPr>
              <a:t>PROBLEM ÇÖZME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aeaea"/>
                </a:solidFill>
                <a:latin typeface="Arial Narrow"/>
              </a:rPr>
              <a:t>ÜSTÜN AMAÇLAR SAPTAMA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aeaea"/>
                </a:solidFill>
                <a:latin typeface="Arial Narrow"/>
              </a:rPr>
              <a:t>KAYNAKLARIN ARTTIRILMASI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aeaea"/>
                </a:solidFill>
                <a:latin typeface="Arial Narrow"/>
              </a:rPr>
              <a:t>KAÇINMA 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aeaea"/>
                </a:solidFill>
                <a:latin typeface="Arial Narrow"/>
              </a:rPr>
              <a:t>YUMUŞATMA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aeaea"/>
                </a:solidFill>
                <a:latin typeface="Arial Narrow"/>
              </a:rPr>
              <a:t>UZLAŞTIRMA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aeaea"/>
                </a:solidFill>
                <a:latin typeface="Arial Narrow"/>
              </a:rPr>
              <a:t>YETKİ KULLANMA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19320" y="1295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ÇATIŞMANIN YÖNETİLMESİ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2514600"/>
            <a:ext cx="6095880" cy="22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aeaea"/>
                </a:solidFill>
                <a:latin typeface="Arial Narrow"/>
              </a:rPr>
              <a:t>POLİTİK YAKLAŞIM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aeaea"/>
                </a:solidFill>
                <a:latin typeface="Arial Narrow"/>
              </a:rPr>
              <a:t>HAKEME BAŞVURMA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aeaea"/>
                </a:solidFill>
                <a:latin typeface="Arial Narrow"/>
              </a:rPr>
              <a:t>YAPISAL DEĞİŞKENLERİ DEĞİŞTİRME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aeaea"/>
                </a:solidFill>
                <a:latin typeface="Arial Narrow"/>
              </a:rPr>
              <a:t>DAVRANIŞ DEĞİŞTİRME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487760" y="914400"/>
            <a:ext cx="136548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87760" y="1905120"/>
            <a:ext cx="13654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79840" y="3048120"/>
            <a:ext cx="136548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79840" y="4114800"/>
            <a:ext cx="1365480" cy="1219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83080" y="5334120"/>
            <a:ext cx="136512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BULDOG" descr=""/>
          <p:cNvPicPr/>
          <p:nvPr/>
        </p:nvPicPr>
        <p:blipFill>
          <a:blip r:embed="rId1"/>
          <a:stretch/>
        </p:blipFill>
        <p:spPr>
          <a:xfrm>
            <a:off x="4876920" y="990720"/>
            <a:ext cx="600120" cy="895320"/>
          </a:xfrm>
          <a:prstGeom prst="rect">
            <a:avLst/>
          </a:prstGeom>
          <a:ln w="0">
            <a:noFill/>
          </a:ln>
        </p:spPr>
      </p:pic>
      <p:pic>
        <p:nvPicPr>
          <p:cNvPr id="124" name="AT" descr=""/>
          <p:cNvPicPr/>
          <p:nvPr/>
        </p:nvPicPr>
        <p:blipFill>
          <a:blip r:embed="rId2"/>
          <a:stretch/>
        </p:blipFill>
        <p:spPr>
          <a:xfrm>
            <a:off x="4809960" y="1924200"/>
            <a:ext cx="733680" cy="1085760"/>
          </a:xfrm>
          <a:prstGeom prst="rect">
            <a:avLst/>
          </a:prstGeom>
          <a:ln w="0">
            <a:noFill/>
          </a:ln>
        </p:spPr>
      </p:pic>
      <p:pic>
        <p:nvPicPr>
          <p:cNvPr id="125" name="TILKI" descr=""/>
          <p:cNvPicPr/>
          <p:nvPr/>
        </p:nvPicPr>
        <p:blipFill>
          <a:blip r:embed="rId3"/>
          <a:stretch/>
        </p:blipFill>
        <p:spPr>
          <a:xfrm>
            <a:off x="4729320" y="3086280"/>
            <a:ext cx="895320" cy="990360"/>
          </a:xfrm>
          <a:prstGeom prst="rect">
            <a:avLst/>
          </a:prstGeom>
          <a:ln w="0">
            <a:noFill/>
          </a:ln>
        </p:spPr>
      </p:pic>
      <p:pic>
        <p:nvPicPr>
          <p:cNvPr id="126" name="MAYMUN" descr=""/>
          <p:cNvPicPr/>
          <p:nvPr/>
        </p:nvPicPr>
        <p:blipFill>
          <a:blip r:embed="rId4"/>
          <a:stretch/>
        </p:blipFill>
        <p:spPr>
          <a:xfrm>
            <a:off x="4821120" y="4157640"/>
            <a:ext cx="711360" cy="1143000"/>
          </a:xfrm>
          <a:prstGeom prst="rect">
            <a:avLst/>
          </a:prstGeom>
          <a:ln w="0">
            <a:noFill/>
          </a:ln>
        </p:spPr>
      </p:pic>
      <p:pic>
        <p:nvPicPr>
          <p:cNvPr id="127" name="KIRPI" descr=""/>
          <p:cNvPicPr/>
          <p:nvPr/>
        </p:nvPicPr>
        <p:blipFill>
          <a:blip r:embed="rId5"/>
          <a:stretch/>
        </p:blipFill>
        <p:spPr>
          <a:xfrm>
            <a:off x="4724280" y="5514840"/>
            <a:ext cx="905040" cy="9622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1371600" y="152280"/>
            <a:ext cx="4571640" cy="695160"/>
            <a:chOff x="1371600" y="152280"/>
            <a:chExt cx="4571640" cy="695160"/>
          </a:xfrm>
        </p:grpSpPr>
        <p:sp>
          <p:nvSpPr>
            <p:cNvPr id="129" name=""/>
            <p:cNvSpPr/>
            <p:nvPr/>
          </p:nvSpPr>
          <p:spPr>
            <a:xfrm>
              <a:off x="1371600" y="152280"/>
              <a:ext cx="45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71600" y="277560"/>
              <a:ext cx="45716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7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ff3300"/>
                  </a:solidFill>
                  <a:latin typeface="Arial Black"/>
                  <a:ea typeface="Times New Roman"/>
                </a:rPr>
                <a:t>SORUNLU </a:t>
              </a:r>
              <a:r>
                <a:rPr b="0" lang="tr-TR" sz="1700" spc="-1" strike="noStrike">
                  <a:solidFill>
                    <a:srgbClr val="ff3300"/>
                  </a:solidFill>
                  <a:latin typeface="Arial Black"/>
                </a:rPr>
                <a:t>İ</a:t>
              </a:r>
              <a:r>
                <a:rPr b="0" lang="tr-TR" sz="1700" spc="-1" strike="noStrike">
                  <a:solidFill>
                    <a:srgbClr val="ff3300"/>
                  </a:solidFill>
                  <a:latin typeface="Arial Black"/>
                  <a:ea typeface="Times New Roman"/>
                </a:rPr>
                <a:t>NSANLAR ve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27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ff3300"/>
                  </a:solidFill>
                  <a:latin typeface="Arial Black"/>
                  <a:ea typeface="Times New Roman"/>
                </a:rPr>
                <a:t>ONLARLA BA</a:t>
              </a:r>
              <a:r>
                <a:rPr b="0" lang="tr-TR" sz="1700" spc="-1" strike="noStrike">
                  <a:solidFill>
                    <a:srgbClr val="ff3300"/>
                  </a:solidFill>
                  <a:latin typeface="Arial Black"/>
                </a:rPr>
                <a:t>Ş</a:t>
              </a:r>
              <a:r>
                <a:rPr b="0" lang="tr-TR" sz="1700" spc="-1" strike="noStrike">
                  <a:solidFill>
                    <a:srgbClr val="ff3300"/>
                  </a:solidFill>
                  <a:latin typeface="Arial Black"/>
                  <a:ea typeface="Times New Roman"/>
                </a:rPr>
                <a:t>A ÇIKMA YOLLARI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371600" y="228600"/>
            <a:ext cx="4572000" cy="6858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914400"/>
            <a:ext cx="304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Bulldo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Sald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rgan, kat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, kavgaya meyilli, gol atma derdinde, uyarmadan sald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ya geçebili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79520" y="914400"/>
            <a:ext cx="3116160" cy="99072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958680"/>
            <a:ext cx="2971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Kemirmeleri için bir kemik veri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Söyledikleri ile söyleme şeklini birbirinden ay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Soğukkanl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davran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6000" y="914400"/>
            <a:ext cx="3043080" cy="99072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205740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A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Her 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ş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eyi kitab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na göre yaparlar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Zekidir ama her zaman tökezleyebili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1981080"/>
            <a:ext cx="2886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Onla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suya götürün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Yapmala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için bir 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ş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eyler veri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Yeniden tekrarlayarak ve özetleyerek görü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ş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lerinden faydalan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3124080"/>
            <a:ext cx="3047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Tilki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Üçka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ğ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tç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, toplant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n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n alt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n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oya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Çok fazla dedikodu yapa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Potansiyel bir sabotajc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124080"/>
            <a:ext cx="2965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Görü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ş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lerini aç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k seçik ortaya koymala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için onla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zorlay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Gizli gündemlerini ortaya ç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ka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Bulldogla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üzerlerine sal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61960" y="4168800"/>
            <a:ext cx="2957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109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Maymu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109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Çok bilmi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ş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, her konuda uzman, çakt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rmadan dedikodu yapa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109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Daldan dala atla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109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Her 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ş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eye gönüllü olarak 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b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al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klama dalar,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4343400"/>
            <a:ext cx="29638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Prosedürü kontrol edi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Kapal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sorular soru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Yapmala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için onlara zor bir i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ş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veri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50800" y="5397480"/>
            <a:ext cx="2887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Kirpi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Dikenli, devaml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m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zm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zlan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Herkesi küçümser, muhtemelen bir kaç kez ezilmi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ş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ti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Ş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üpheci, yard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m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sevmez, i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ş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leri ka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ş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t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rma e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ğ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ilimi vard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5477040"/>
            <a:ext cx="2963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Onla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g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d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klay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Uzmanl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k alanla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na sayg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gösteri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Yard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m etmelerini isteyi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0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Sorumluluk vererek onlara belli bir statü kazand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n (ve tabii ki bir bardak s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cak süt)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40" y="48657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9520" y="1905120"/>
            <a:ext cx="3116160" cy="11430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6000" y="1905120"/>
            <a:ext cx="3043080" cy="11430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048120"/>
            <a:ext cx="3116160" cy="10666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88080" y="3048120"/>
            <a:ext cx="3043080" cy="10666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114800"/>
            <a:ext cx="3116160" cy="121932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88080" y="4114800"/>
            <a:ext cx="3043080" cy="121932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4840" y="5334120"/>
            <a:ext cx="3116160" cy="1371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5334120"/>
            <a:ext cx="3043080" cy="1371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495680" y="914400"/>
            <a:ext cx="1443240" cy="1295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368360" y="152280"/>
            <a:ext cx="4571640" cy="695160"/>
            <a:chOff x="1368360" y="152280"/>
            <a:chExt cx="4571640" cy="695160"/>
          </a:xfrm>
        </p:grpSpPr>
        <p:sp>
          <p:nvSpPr>
            <p:cNvPr id="155" name=""/>
            <p:cNvSpPr/>
            <p:nvPr/>
          </p:nvSpPr>
          <p:spPr>
            <a:xfrm>
              <a:off x="1368360" y="152280"/>
              <a:ext cx="45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200"/>
              </a:b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68360" y="277560"/>
              <a:ext cx="457164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7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ff3300"/>
                  </a:solidFill>
                  <a:latin typeface="Arial Black"/>
                  <a:ea typeface="Times New Roman"/>
                </a:rPr>
                <a:t>SORUNLU </a:t>
              </a:r>
              <a:r>
                <a:rPr b="0" lang="tr-TR" sz="1700" spc="-1" strike="noStrike">
                  <a:solidFill>
                    <a:srgbClr val="ff3300"/>
                  </a:solidFill>
                  <a:latin typeface="Arial Black"/>
                </a:rPr>
                <a:t>İ</a:t>
              </a:r>
              <a:r>
                <a:rPr b="0" lang="tr-TR" sz="1700" spc="-1" strike="noStrike">
                  <a:solidFill>
                    <a:srgbClr val="ff3300"/>
                  </a:solidFill>
                  <a:latin typeface="Arial Black"/>
                  <a:ea typeface="Times New Roman"/>
                </a:rPr>
                <a:t>NSANLAR ve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27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ff3300"/>
                  </a:solidFill>
                  <a:latin typeface="Arial Black"/>
                  <a:ea typeface="Times New Roman"/>
                </a:rPr>
                <a:t>ONLARLA BA</a:t>
              </a:r>
              <a:r>
                <a:rPr b="0" lang="tr-TR" sz="1700" spc="-1" strike="noStrike">
                  <a:solidFill>
                    <a:srgbClr val="ff3300"/>
                  </a:solidFill>
                  <a:latin typeface="Arial Black"/>
                </a:rPr>
                <a:t>Ş</a:t>
              </a:r>
              <a:r>
                <a:rPr b="0" lang="tr-TR" sz="1700" spc="-1" strike="noStrike">
                  <a:solidFill>
                    <a:srgbClr val="ff3300"/>
                  </a:solidFill>
                  <a:latin typeface="Arial Black"/>
                  <a:ea typeface="Times New Roman"/>
                </a:rPr>
                <a:t>A ÇIKMA YOLLARI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368360" y="228600"/>
            <a:ext cx="4572000" cy="6858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914400"/>
            <a:ext cx="3124080" cy="12952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29200" y="914400"/>
            <a:ext cx="2907000" cy="12952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8657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1035000"/>
            <a:ext cx="3047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Ceyla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Korkak ve içine kapan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k, genç olabili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Kaçmaya yatk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n, sessiz bir sava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şç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Kendi ayakla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üzerinde durmaktan yoksu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2" name="CEYLAN" descr=""/>
          <p:cNvPicPr/>
          <p:nvPr/>
        </p:nvPicPr>
        <p:blipFill>
          <a:blip r:embed="rId1"/>
          <a:stretch/>
        </p:blipFill>
        <p:spPr>
          <a:xfrm>
            <a:off x="4762440" y="914400"/>
            <a:ext cx="905040" cy="1247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495680" y="2209680"/>
            <a:ext cx="1443240" cy="129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2209680"/>
            <a:ext cx="3124080" cy="129564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9200" y="2209680"/>
            <a:ext cx="2907000" cy="129564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6" name="KURBAGA" descr=""/>
          <p:cNvPicPr/>
          <p:nvPr/>
        </p:nvPicPr>
        <p:blipFill>
          <a:blip r:embed="rId2"/>
          <a:stretch/>
        </p:blipFill>
        <p:spPr>
          <a:xfrm>
            <a:off x="4767120" y="2362320"/>
            <a:ext cx="895320" cy="961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019920" y="1219320"/>
            <a:ext cx="266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Sorabilecekleri direkt sorular yöneltin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Onla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övün ve cesaretlendiri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59080" y="2438280"/>
            <a:ext cx="2971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120760"/>
                <a:tab algn="l" pos="232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Kurba</a:t>
            </a:r>
            <a:r>
              <a:rPr b="1" i="1" lang="tr-TR" sz="1200" spc="-1" strike="noStrike">
                <a:solidFill>
                  <a:srgbClr val="eaeaea"/>
                </a:solidFill>
                <a:latin typeface="Arial"/>
              </a:rPr>
              <a:t>ğ</a:t>
            </a:r>
            <a:r>
              <a:rPr b="1" i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20760"/>
                <a:tab algn="l" pos="2320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Geveze,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dü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ş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ünmeden konu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ş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ur, yan i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ş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bilgilendirilmi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ş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tir, her yere burnunu sokar, tilkinin kurban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d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24382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Gündemden uzakla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ş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mala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na izin vermeyin, gafla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n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görmemezlikten geli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Zamana riayet etmelerini isteyi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3505320"/>
            <a:ext cx="1443240" cy="1295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3505320"/>
            <a:ext cx="3124080" cy="12952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29200" y="3505320"/>
            <a:ext cx="2907000" cy="129528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3" name="SUAYGİRİ" descr=""/>
          <p:cNvPicPr/>
          <p:nvPr/>
        </p:nvPicPr>
        <p:blipFill>
          <a:blip r:embed="rId3"/>
          <a:stretch/>
        </p:blipFill>
        <p:spPr>
          <a:xfrm>
            <a:off x="4767120" y="3581280"/>
            <a:ext cx="895320" cy="1057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600200" y="3527280"/>
            <a:ext cx="274320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Suayg</a:t>
            </a:r>
            <a:r>
              <a:rPr b="1" i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i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r</a:t>
            </a:r>
            <a:r>
              <a:rPr b="1" i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Debelenir, zaman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n 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ç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o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ğ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unda ya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uykulu bir haldedi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Belirsizlikleri sever. Hemen hemen her 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ş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eyde hemfikirdir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En sevdi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ğ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i söz ‘niçin ben?’di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365760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Uyand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rmaya çal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ş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n, aniden sözü ona verin, onla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zorlay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n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800600"/>
            <a:ext cx="144324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3124080" cy="1371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29200" y="4800600"/>
            <a:ext cx="2907000" cy="1371600"/>
          </a:xfrm>
          <a:prstGeom prst="rect">
            <a:avLst/>
          </a:prstGeom>
          <a:noFill/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9" name="ZÜRAFA" descr=""/>
          <p:cNvPicPr/>
          <p:nvPr/>
        </p:nvPicPr>
        <p:blipFill>
          <a:blip r:embed="rId4"/>
          <a:stretch/>
        </p:blipFill>
        <p:spPr>
          <a:xfrm>
            <a:off x="4800600" y="4876920"/>
            <a:ext cx="895320" cy="12189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523880" y="4876920"/>
            <a:ext cx="2819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eaeaea"/>
                </a:solidFill>
                <a:latin typeface="Arial"/>
              </a:rPr>
              <a:t>Z</a:t>
            </a:r>
            <a:r>
              <a:rPr b="1" i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üraf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Çok kolay dikkati da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ğ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l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r, devaml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hayal kura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Oldukça duygusald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Ba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ş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a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s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z olmamak için her 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ş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eyi yapar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5181480"/>
            <a:ext cx="2438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Ayakla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n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n yere basmas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için onla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cesaretlendirin Sayg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gösterin. Aç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klar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n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aramay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</a:rPr>
              <a:t>ı</a:t>
            </a:r>
            <a:r>
              <a:rPr b="1" lang="tr-TR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057400" y="11430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TOPLANTIYI AÇM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1981080"/>
            <a:ext cx="609588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ZAMANINDA BAŞLA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TOPLANTININ AMACINI ORTAYA KOY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GEREKEN TÜM AÇIKLAMALARI YAP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TOPLANTININ PROSEDÜRÜNÜ VE ZAMANLAMASINI İLAN ET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BAŞKANLIK ETTİĞİNİZ GRUBUN;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YENİ OLDUĞUNU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UZUN ZAMAN BİRLİKTE OLDUĞUNU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762120"/>
            <a:ext cx="844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 Black"/>
              </a:rPr>
              <a:t>HER GÜNDEM MADDESİNİ ELE ALMA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1371600"/>
            <a:ext cx="67053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 Narrow"/>
              </a:rPr>
              <a:t>GÜNDEME ATIFLARDA BULUNUN 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 Narrow"/>
              </a:rPr>
              <a:t>BİR MADDEYİ SONUCA BAĞLAMADAN  DİĞERİNE GEÇMEYİN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 Narrow"/>
              </a:rPr>
              <a:t>HER MADDENİN AMACINI NETLEŞTİRİN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 Narrow"/>
              </a:rPr>
              <a:t>TARTIŞMAYI OLUMLU BİR AÇIDAN BAŞLATIN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 Narrow"/>
              </a:rPr>
              <a:t>NE KADAR ZAMAN KALDIĞINI KATILIMCILARA HATIRLATIN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 Narrow"/>
              </a:rPr>
              <a:t>GEREKLİ ARKA PLAN BİLGİLERİNİ VERİN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 Narrow"/>
              </a:rPr>
              <a:t>MADDEDEN MADDEYE YAKLAŞIMINIZI DEĞİŞTİRMEYE ÇALIŞIN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95160" y="1676520"/>
            <a:ext cx="844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ÖZETLEM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336840"/>
            <a:ext cx="60958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 Narrow"/>
              </a:rPr>
              <a:t>MADDELER ARASINDA ÖZETLEME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 Narrow"/>
              </a:rPr>
              <a:t>MADDELERİN SONUNDA ÖZETLEME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 Narrow"/>
              </a:rPr>
              <a:t>TOPLANTININ  SONUNDA ÖZETLEME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90720" y="1371600"/>
            <a:ext cx="7176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YAPILACAKLARA YÖNELİK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KARARLAR ALIRKE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3048120"/>
            <a:ext cx="60958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 Narrow"/>
              </a:rPr>
              <a:t>BİREYLERİN VE TOPLANTININ HAREKETE GEÇME OTORİTESİ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 Narrow"/>
              </a:rPr>
              <a:t>DİĞER KURUM, BÖLÜM VE ELEMANLAR İÇİN MUHTEMEL YAN ETKİLER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 Narrow"/>
              </a:rPr>
              <a:t>MUHTEMEL MASRAFLAR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 Narrow"/>
              </a:rPr>
              <a:t>MEVCUT KAYNAKLAR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752480" y="1600200"/>
            <a:ext cx="7086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NEYE KARAR VERİLDİĞİNİ VE BİR SONRAKİ  AŞAMALARI ÖZETLEYİN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YAPILACAK OLAN ŞEYLERİ, KİMLER TARAFINDAN VE NE ZAMAN YAPILACAĞINI İLAN EDİN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KATILIMCILARIN KARARLILIKLARINI TEST EDİN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MÜMKÜNSE BİR SONRAKİ TOPLANTININ TARİH VE SAATİNİ BELİRLEYİN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HERKESE KATILDIKLARINDAN VE KATKILARINDAN DOLAYI TEŞEKKÜR EDİN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7192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TOPLANTIYI KAPATIRKE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52560" y="1219320"/>
            <a:ext cx="819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 Black"/>
              </a:rPr>
              <a:t>GÜNDEM İÇİN GEREKEN MADDELERİ TOPLARKE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52480" y="2514600"/>
            <a:ext cx="6934320" cy="33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MANTIKLI BİR SIRALAMA 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BELLİ BİR AKIŞ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RUTİN MADDELER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ÖZEL UNSURLAR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ZOR YADA DETAYLI MADDELER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ACİL VE ÖNEMLİ MADDELER ARASINDAKİ DENGE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133720" y="137160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TOPLANTI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3048120"/>
            <a:ext cx="8077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eaeaea"/>
                </a:solidFill>
                <a:latin typeface="Arial"/>
              </a:rPr>
              <a:t>İNSANLARIN İLETİŞİMLERİN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eaeaea"/>
                </a:solidFill>
                <a:latin typeface="Arial"/>
              </a:rPr>
              <a:t>SAĞLADIKLARI ORTAK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eaeaea"/>
                </a:solidFill>
                <a:latin typeface="Arial"/>
              </a:rPr>
              <a:t>YÖNTEMLERDEN BİRİDİ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71600" y="1447920"/>
            <a:ext cx="73915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Gereksiz maddeleri ayıklayın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Her maddeyi detaylandırın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Her madde en azından, grubun ne yapacağını görmesi açısından, bir eylem içermelidir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Her maddeye belli bir zaman verin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Madde ile ilgili özellikle konuşması gereken kişileri işaretleyin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Kaybolma ihtimaline karşı, ekte sunulan kağıtları not edin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Kolay referansta bulunmak için yapılması gerekenleri ayrı bir kağıda yazın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822240"/>
            <a:ext cx="78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ff3300"/>
                </a:solidFill>
                <a:latin typeface="Arial Black"/>
              </a:rPr>
              <a:t>GÜNDEMİ BİR ARAYA GETİRME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8720" y="714240"/>
            <a:ext cx="83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TOPLANTILARIN VAZGEÇİLMEZLİĞİ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2133720"/>
            <a:ext cx="7238880" cy="45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 Narrow"/>
              </a:rPr>
              <a:t>TOPLANTILAR EN ET</a:t>
            </a: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KİN İLETİŞİM ARACIDIR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SORUN ÇÖZME ARACIDIR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KATILIMCI YÖNETİM ANLAYIŞI ARACISIDIR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EKİP ÇALIŞMASINA İMKAN SAĞLAR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ÖRGÜTSEL ÖĞRENMENİN VAZGEÇİLMEZ ARACIDIR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BİLGİ ALIŞVERİŞİ VE DURUM DEĞERLENDİRMESİ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ÇATIŞMALARI SONA ERDİRMESİ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00360" y="11430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TOPLANTI TÜRLERİ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1981080"/>
            <a:ext cx="5943600" cy="27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BİLGİLENDİRME AMAÇLI TOPLANTILAR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DEĞERLENDİRME TOPLANTILARI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YÖNLENDİRİCİ TOPLANTILARI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DANIŞMA TOPLANTILARI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MESLEKİ TOPLANTILARI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866960" y="121932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TOPLANTI TÜRLERİ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2727360"/>
            <a:ext cx="6095880" cy="22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KOMİ</a:t>
            </a:r>
            <a:r>
              <a:rPr b="0" lang="en-US" sz="2500" spc="-1" strike="noStrike">
                <a:solidFill>
                  <a:srgbClr val="eaeaea"/>
                </a:solidFill>
                <a:latin typeface="Arial Narrow"/>
              </a:rPr>
              <a:t>T</a:t>
            </a: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E YADA KOMİSYON TOPLANTILARI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MÜZAKERE TOPLANTILARI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SORUN ÇÖZME TOPLANTILARI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Arial Narrow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eaeaea"/>
                </a:solidFill>
                <a:latin typeface="Arial Narrow"/>
              </a:rPr>
              <a:t>EĞİTİCİ TOPLANTILAR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19320" y="985680"/>
            <a:ext cx="7572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3300"/>
                </a:solidFill>
                <a:latin typeface="Arial Black"/>
              </a:rPr>
              <a:t>ETKİLİ TOPLANTI İÇİ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tr-TR" sz="3600" spc="-1" strike="noStrike">
                <a:solidFill>
                  <a:srgbClr val="ff3300"/>
                </a:solidFill>
                <a:latin typeface="Arial Black"/>
              </a:rPr>
              <a:t>ALTIN KURALLA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3070080"/>
            <a:ext cx="609588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 Narrow"/>
              </a:rPr>
              <a:t>HER TOPLANTI KENDİNE ÖZGÜDÜR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 Narrow"/>
              </a:rPr>
              <a:t>TOPLANTININ BAŞARISI SONUÇLARI İLE DEĞERLENDİRİLİR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aeaea"/>
                </a:solidFill>
                <a:latin typeface="Arial Narrow"/>
              </a:rPr>
              <a:t>TOPLANTIYI YÜRÜTMEK, BÜTÜN BİR GRUBUN SORUMLULUĞUNDADIR.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66880" y="2438280"/>
            <a:ext cx="8277120" cy="990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ff3300"/>
            </a:solidFill>
            <a:miter/>
          </a:ln>
          <a:effectLst>
            <a:outerShdw dist="153753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81080" y="25146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7a"/>
                </a:solidFill>
                <a:latin typeface="Arial Black"/>
              </a:rPr>
              <a:t>ÇATIŞMA YÖNETİMİ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57400" y="13716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3300"/>
                </a:solidFill>
                <a:latin typeface="Arial Black"/>
              </a:rPr>
              <a:t>ÇATIŞMANIN TANIMI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819520"/>
            <a:ext cx="60958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KARARSIZLI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UYUŞMAZLI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Black"/>
              </a:rPr>
              <a:t>İKİL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11430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 Black"/>
              </a:rPr>
              <a:t>ÇATIŞMANIN NEDENLERİ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133720"/>
            <a:ext cx="609588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eaeaea"/>
                </a:solidFill>
                <a:latin typeface="Arial Narrow"/>
              </a:rPr>
              <a:t>İŞ BÖLÜMÜ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eaeaea"/>
                </a:solidFill>
                <a:latin typeface="Arial Narrow"/>
              </a:rPr>
              <a:t>KARŞILIKLI BAĞIMLILIK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eaeaea"/>
                </a:solidFill>
                <a:latin typeface="Arial Narrow"/>
              </a:rPr>
              <a:t>SINIRLI  KAYNAKLARIN PAYLAŞILMASI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eaeaea"/>
                </a:solidFill>
                <a:latin typeface="Arial Narrow"/>
              </a:rPr>
              <a:t>ORTAK KARAR VERME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eaeaea"/>
                </a:solidFill>
                <a:latin typeface="Arial Narrow"/>
              </a:rPr>
              <a:t>AMAÇ FARKLILIĞI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eaeaea"/>
                </a:solidFill>
                <a:latin typeface="Arial Narrow"/>
              </a:rPr>
              <a:t>ALGILAMA FARKLILIĞI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62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eaeaea"/>
                </a:solidFill>
                <a:latin typeface="Arial Narrow"/>
              </a:rPr>
              <a:t>UZMANLAŞMA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7:53:25Z</dcterms:created>
  <dc:creator>Atakum Teknik Lise</dc:creator>
  <dc:description/>
  <dc:language>en-US</dc:language>
  <cp:lastModifiedBy>Atakum Teknik Lisesi</cp:lastModifiedBy>
  <dcterms:modified xsi:type="dcterms:W3CDTF">2001-05-09T14:01:42Z</dcterms:modified>
  <cp:revision>19</cp:revision>
  <dc:subject/>
  <dc:title>PowerPoint Sunusu</dc:title>
</cp:coreProperties>
</file>