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BBA5-871F-4D70-9171-525A888B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725D-43B9-4D47-83C1-25EFC599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6D33-9DDB-426D-B311-B5CE0090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0B06-1FC7-4EE1-AC06-A72162D43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4750-C114-4595-B3A7-DB29CD74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8482-4D3A-414C-A837-8518E906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B40D-B82D-4CEC-A656-98D70CF0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E1A6-11DF-400C-8FA5-88A35A87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5F5F-289D-4E52-879A-D9921913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7CB8-71A2-48E3-94F2-1CB5426E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7E24-649D-4661-8746-0BB93075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014A-818A-4C75-98CD-DAA4B6E3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C72C-5211-4D36-837E-58C89FA9EBBD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666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ÖĞRENCİ MERKEZLİ ÖĞRETİ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İ. Cem GİRGİ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ÖĞRETME YÖNTEMLERİ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tışma dersin tamamına ayrılmamalı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Öğrenci görüş ve düşüncelerini rahatça söyleme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ütün öğrencilerin tartışmaya katılması sağlanmalı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rup liderleri tartışmayı plânlamalı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tışmadan çıkan sonuç kısaca özetlenme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RTIŞMA YÖNTEMLERİ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Münaz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b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Pa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c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Vızıltı Gruplar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Fikir Taramas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e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Fo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f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emi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tak Özellikle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kratik bir yöntem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Öğrenciler tartışarak öğrenir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Öğrencinin soru sorma, sorulara hemen cevap verme gibi yetenekleri geliş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uba ait olma duygusu geliş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ndi düşünceleri yanında diğer arkadaşlarının da düşüncelerini öğrenme imkânı bulur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ndi görüşleri üzerine düşünce, eleştirileri ve değerlendirmeleri öğrenir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ndi kendilerini disiplin etmeyi öğrenir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 yöntemle öğretmen öğrencilerini daha iyi tanıma imkanına kavuş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ınırlılıklar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man gerektir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uşmaları konu üzerinde tutmak güçtü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İyi disipline olmuş bir sınıf gerektir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uşmalar çok uzar ve konu anlamsızlaşı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up liderliği oldukça zord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Çok kalabalık sınıflarda uygulanama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ff0000"/>
              </a:buClr>
              <a:buFont typeface="Arial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 ÖRNEK OLAY YÖNTEM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çek hayatta karşılaşılan problemlerin sınıf ortamında çözülmesi yoluyla öğrenimin sağlanmasıdı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 yöntem öğrencilere bir konuyu ya da beceriyi kazandırmak ve o konuda uygulama yaptırmak amacıyla kullanılı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 yöntem daha çok buluş yoluyla öğrenme yaklaşımında ve kavrama düzeyindeki davranışların kazandırılmasında kullanılı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Özellikle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Öğrenci merkezli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Öğrenciler, bildiklerini ve kavradıklarını gerçek bir duruma uygulama şansına sahipt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çözmeyi, analiz edip sonuca ulaşmayı öğrenir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ınırlılıklar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ınıfa getirilecek örnek olayın temel ayrıntıları iyi belirlenmiş olmalı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Örnek olayda temel bir sorun bulunmamalı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r sorunun analiz edilmesi istenmeli, böylece sorun iyice anlaşılmalı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Örnek olay, hedefler, ilişkiler ve değerler açısından değerlendirilme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tışma sonunda ortaya çıkan ilke ve sonuçlardan ve deneyimlerden kurumdaki çalışmalarda ne şekilde yararlanılacağının üzerinde durulmalı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ff0000"/>
              </a:buClr>
              <a:buFont typeface="Arial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 GÖSTERİ YAPTIRMA YÖNTEM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r işlemin uygulanmasını, bir araç gerecin çalıştırılmasını önce gösterip açıklama, sonra da öğrenciye alıştırma ve uygulama yaptırarak öğretme yolud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r konuya ilişkin bilgilerin açıklanması ve bu bilgilerin beceriye dönüştürülmesi için gerekli uygulamaların yapılması aşamasında kullanılı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Öğrenme ve öğretme sürecinde en yaygın olarak kullanılan yöntem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130000"/>
              <a:buFont typeface="MS Outlook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Anlatma yönt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130000"/>
              <a:buFont typeface="MS Outlook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Tartışma yönt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130000"/>
              <a:buFont typeface="MS Outlook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Örnek olay yönt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130000"/>
              <a:buFont typeface="MS Outlook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Gösterip yaptırma yönt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130000"/>
              <a:buFont typeface="MS Outlook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çözme yöntem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130000"/>
              <a:buFont typeface="MS Outlook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reysel çalışma yönt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Özellikle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6600"/>
                </a:solidFill>
                <a:latin typeface="Times New Roman"/>
              </a:rPr>
              <a:t>Gösteri öğretmen merkezli, yapma işlemi de öğrenci merkezli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Bu yöntem daha çok öğrencilerin psikomotor becerileri kazanmalarında etkili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Öğrenciler, becerilerini yaparak yaşayarak geliştirir ve öğrenir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ınırlılıklar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zandırılacak beceriler önce öğretmenler tarafından yapılarak öğrencilere gösterilme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 öğrenciye istenilen beceriyi kazanması için yeterli zaman ve tekrar yapma şansı verilme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österi anında kullanılacak şema, slayt ve film gibi araç gereçler önceden hazırlanmalı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eriler sırayla ve aşamalı olarak öğretilmeli, bir beceri tam öğrenilmeden diğerine geçilmeme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Öğrencilere önce basit, kolay ve yapabilecekleri işler yaptırılmalı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sin işleneceği yer önceden kontrol edilip      öğretime hazır hale getirilme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apılacak işler bir akış çizelgesinde gösterilme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ff0000"/>
              </a:buClr>
              <a:buFont typeface="Times New Roman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 PROBLEM ÇÖZME YÖNTEM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İstenilen hedefe ulaşabilmek için etkili ve yararlı olan araç ve davranışları türlü olanaklar arsından seçme ve kullanmadı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r problemin çözümünde, genelleme ve sentez yapmada kullanılı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ha çok araştırma yoluyla öğretme yaklaşımında, bilişsel alanın uygulama düzeyindeki davranışların kazandırılmasında ve duyuşsal alanın analiz ve sentez özelliklerini geliştirmede kullanılı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Özellikle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Öğrenci merkezlidi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Öğrencide ilgi ve güdülemeyi arttırı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ha kalıcı izli öğrenmeleri oluştur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limsel yöntemi kullanmayı öğretir ve bilimsel tutum kazandırı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ınırlılıklar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çözmede izlenen yollar tümevarım ve tümdengelim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r problemi çözmede izlenen yol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in farkına var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in ne olduğunu tanımlama ve sınırl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in çözümü için hipotezler oluştur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i toplama, toplanan verileri analiz edip yoruml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Çözüm uygulama, elde edilen sonuçlara göre öneride bulun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ff0000"/>
              </a:buClr>
              <a:buFont typeface="Times New Roman"/>
              <a:buChar char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 BİREYSEL ÇALIŞMA YÖNTEM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r öğrencinin bir konuyu yaparak, yaşayarak öğrenme yolud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r öğrencinin bir konuyu kendi başına öğrenmek istediği veya kendi başına çalışma yapmak istediği zaman kullanılı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aştırma ve tam öğrenme yoluyla öğretme yaklaşımlarında, ayrıca uygulama, analiz ve sentez düzeylerindeki davranışları kazandırmada kullanılı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Özellikle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Öğrenci merkezli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Öğrenci, yaparak ve yaşayarak öğren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 öğrenci öğrenme durumunu kendine göre ayar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Öğrenme, öğrencinin ilgi, yetenek ve ihtiyaçlarına uygun olarak yapılı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ınırlılıklar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aç iyi belirlenme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man en iyi şekilde kullanılmalı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İyi bir planlama yapılmalı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ılı araçlardan bilgi edinilirken önemli hususların altı çizilmeli, özet çıkarılmalı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ff0000"/>
              </a:buClr>
              <a:buFont typeface="Arial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ANLATIM YÖNTEMLER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se giriş yaparken, konuyu özetlerken ya da konu ile ilgili bilgi aktarılırken kullanılan yöntem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ha çok sunuş yoluyla öğretme yaklaşımında ve bilgi düzeyindeki davranışların kazandırılmasında kullanılı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ÖĞRETİM TEKNİKLER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öntem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lde hedefe ulaşmak için izlenen en kısa yol olarak tanımlanmaktadı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kni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r öğretme yöntemini uygulamaya koyma biçimi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aygın olarak kullanılan teknikl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130000"/>
              <a:buFont typeface="Monotype Sorts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yin Fırtınas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130000"/>
              <a:buFont typeface="Monotype Sort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öste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130000"/>
              <a:buFont typeface="Monotype Sort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u -Cev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130000"/>
              <a:buFont typeface="Monotype Sort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l Yap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upla Öğretim Teknikler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130000"/>
              <a:buFont typeface="Monotype Sorts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130000"/>
              <a:buFont typeface="Monotype Sorts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nzet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130000"/>
              <a:buFont typeface="Monotype Sorts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İkili ve Grup Çalışmalar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130000"/>
              <a:buFont typeface="Monotype Sort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kro Öğret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130000"/>
              <a:buFont typeface="Monotype Sort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ğitsel Oyun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reysel Öğretim Teknikle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130000"/>
              <a:buFont typeface="Monotype Sorts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reyselleştirilmiş Öğret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130000"/>
              <a:buFont typeface="Monotype Sort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lı Öğret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1981080"/>
            <a:ext cx="7772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130000"/>
              <a:buFont typeface="Monotype Sorts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zaktan Eğit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130000"/>
              <a:buFont typeface="Monotype Sort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ktronik Öğrenme Laboratuarlar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130000"/>
              <a:buFont typeface="Monotype Sort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üler Eğit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Çağdaş Uygulama Modeller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ararlar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Öğretmen merkezli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ynı anda çok sayıda  kişiye bilgi aktarılı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nleyenler konu ile organize bir görüş kazanı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Öğrencilere kısa zamanda çok sayıda bilgi veril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Öğrencilere dinleme alışkanlığı kazandırır, not alma becerilerini geliştir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ınırlılıklar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t, kısa ve tam cümleler kullanılmalı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ğru anlatıma ve mesleki terimlerin kullanılmasına özen gösterilme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uların ana başlıkları belirlenme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 tonu çok iyi ayarlanmalı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a sıra tartışmalara yer verilmeli, sorular sorulmalı ve yanıtlara göre konu geliştirilme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İlgi çekici mimik ve jestlerle anlatım süslenme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Öğrenci yaşantılarına uygun örnekler verilme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ff0000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 TARTIŞMA YÖNTEM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r konu üzerinde öğrencileri düşünmeye yöneltmek,iyi anlaşılmayan noktaları açıklamak ve verilen bilgileri pekiştirmek amacıyla kullanılan bir yöntem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ha çok konunun kavranması aşamasında karşılıklı olarak görüşler ortaya konurken, bir problemin çözüm yolları aranırken ve değerlendirme çalışmaları yapılırken kullanılı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ararlar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Öğrenci öğretmen etkileşimi söz konusud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Öğrencilere geçmiş yaşantılarından örnekler vermesi için imkan sağ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Öğrencilerin bir konu üzerinde kendi düşüncelerini söylemelerini ve yorum yapmalarını sağ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,  sentez  ve değerlendirme gücü kazandırı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ınırlılığ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tışma ortamı hazırlanırken tartışılacak konu ya da sorun önceden belirlenme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luca bir tartışma yapılacaksa, öğretmen soruyu sorup bunu tüm sınıfın tartışmasını isteme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ekirse  önce küçük guruplar halinde tartışılmalı, daha sonra topluca tartışılmalı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9:53:36Z</dcterms:created>
  <dc:creator>CUMHURİYET LİSESİ</dc:creator>
  <dc:description/>
  <dc:language>en-US</dc:language>
  <cp:lastModifiedBy>Acer</cp:lastModifiedBy>
  <dcterms:modified xsi:type="dcterms:W3CDTF">2007-06-13T15:31:55Z</dcterms:modified>
  <cp:revision>5</cp:revision>
  <dc:subject/>
  <dc:title>Slayt Başlığı Yok</dc:title>
</cp:coreProperties>
</file>