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948-5D78-4A81-9460-326269B9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1F5-C47D-4909-BDB6-405BB423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DF1-D0EC-4AF7-9DD5-825D00D5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03F-12BD-4738-B163-242D34C0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9DD-644D-414D-9185-A26EFA45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59C-9C78-4C7E-B071-F165DE79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380-9837-45A8-8947-E5C3DB59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EC5-ECC6-43D1-BB8A-2FF85ED8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0D6-6BB5-4172-B534-4A85D62B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B76-1342-4EF3-8856-86B41BB9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23B-9BEF-4DD9-8FFC-170132FA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76F-A14C-4B16-ACB5-47C0DDB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D269-8FDD-405C-8B5E-5C4AB42B4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3749400" cy="554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835280" y="0"/>
            <a:ext cx="592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TATÜRK ve BİLİM</a:t>
            </a:r>
            <a:endParaRPr b="0" lang="en-US" sz="66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97920"/>
            <a:ext cx="4572000" cy="664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Benim Türk Milleti için yapmak istediklerim ve başarmaya çalıştıklarım ortadadır. Benden sonra, beni benimsemek isteyenler, bu temel mihver ( eksen ) üzerinde akıl ve ilmin rehberliğini kabul ederlerse, manevi mirasçılarım olurlar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35640" y="38160"/>
            <a:ext cx="3708360" cy="7405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Ben manevi miras olarak hiçbir âyet , hiçbir doğma , hiçbir donmuş ve kalıplaşmış kural bırakmıyorum. Benim manevi mirası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ilim ve akıl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365720"/>
            <a:ext cx="9144000" cy="2531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ir ulusun asker ordusu ne kadar güçlü olursa olsun, kazandığı zafer ne kadar yüce olursa olsun, bir ulus ilim ordusuna sahip değilse savaş meydanlarında kazanılmış zaferlerin sonu olmayacaktı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16120" y="0"/>
            <a:ext cx="39006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42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29080" y="4149720"/>
            <a:ext cx="3780000" cy="1458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ayatta en hakiki mürşit, ilim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580000" y="692280"/>
            <a:ext cx="3239640" cy="3166560"/>
            <a:chOff x="5580000" y="692280"/>
            <a:chExt cx="3239640" cy="316656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5863680" y="692280"/>
              <a:ext cx="2614680" cy="31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260120" y="2571120"/>
              <a:ext cx="1559520" cy="1202400"/>
            </a:xfrm>
            <a:custGeom>
              <a:avLst/>
              <a:gdLst/>
              <a:ahLst/>
              <a:rect l="l" t="t" r="r" b="b"/>
              <a:pathLst>
                <a:path w="622" h="551">
                  <a:moveTo>
                    <a:pt x="577" y="0"/>
                  </a:moveTo>
                  <a:lnTo>
                    <a:pt x="78" y="0"/>
                  </a:lnTo>
                  <a:lnTo>
                    <a:pt x="33" y="46"/>
                  </a:lnTo>
                  <a:lnTo>
                    <a:pt x="6" y="70"/>
                  </a:lnTo>
                  <a:lnTo>
                    <a:pt x="0" y="551"/>
                  </a:lnTo>
                  <a:lnTo>
                    <a:pt x="622" y="454"/>
                  </a:lnTo>
                  <a:lnTo>
                    <a:pt x="5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580000" y="2590920"/>
              <a:ext cx="1559520" cy="1202400"/>
            </a:xfrm>
            <a:custGeom>
              <a:avLst/>
              <a:gdLst/>
              <a:ahLst/>
              <a:rect l="l" t="t" r="r" b="b"/>
              <a:pathLst>
                <a:path w="622" h="551">
                  <a:moveTo>
                    <a:pt x="577" y="0"/>
                  </a:moveTo>
                  <a:lnTo>
                    <a:pt x="78" y="0"/>
                  </a:lnTo>
                  <a:lnTo>
                    <a:pt x="33" y="46"/>
                  </a:lnTo>
                  <a:lnTo>
                    <a:pt x="6" y="70"/>
                  </a:lnTo>
                  <a:lnTo>
                    <a:pt x="0" y="551"/>
                  </a:lnTo>
                  <a:lnTo>
                    <a:pt x="622" y="454"/>
                  </a:lnTo>
                  <a:lnTo>
                    <a:pt x="5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798560" y="981000"/>
            <a:ext cx="5545080" cy="5672520"/>
            <a:chOff x="1798560" y="981000"/>
            <a:chExt cx="5545080" cy="5672520"/>
          </a:xfrm>
        </p:grpSpPr>
        <p:sp>
          <p:nvSpPr>
            <p:cNvPr id="95" name=""/>
            <p:cNvSpPr/>
            <p:nvPr/>
          </p:nvSpPr>
          <p:spPr>
            <a:xfrm>
              <a:off x="1798560" y="981000"/>
              <a:ext cx="5545080" cy="56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3600" spc="-1" strike="noStrike" u="sng">
                  <a:solidFill>
                    <a:srgbClr val="ffff00"/>
                  </a:solidFill>
                  <a:uFillTx/>
                  <a:latin typeface="Monotype Corsiva"/>
                </a:rPr>
                <a:t>HAZIRLAY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00"/>
                  </a:solidFill>
                  <a:latin typeface="Monotype Corsiva"/>
                </a:rPr>
                <a:t>SEBNEM GÖKME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3600" spc="-1" strike="noStrike">
                  <a:solidFill>
                    <a:srgbClr val="ffff00"/>
                  </a:solidFill>
                  <a:latin typeface="Monotype Corsiva"/>
                </a:rPr>
                <a:t>FEN VE TEKNOLOJ</a:t>
              </a:r>
              <a:r>
                <a:rPr b="0" lang="tr-TR" sz="5400" spc="-1" strike="noStrike">
                  <a:solidFill>
                    <a:srgbClr val="ffff00"/>
                  </a:solidFill>
                  <a:latin typeface="Monotype Corsiva"/>
                </a:rPr>
                <a:t>i</a:t>
              </a:r>
              <a:r>
                <a:rPr b="0" lang="tr-TR" sz="3600" spc="-1" strike="noStrike">
                  <a:solidFill>
                    <a:srgbClr val="ffff00"/>
                  </a:solidFill>
                  <a:latin typeface="Monotype Corsiva"/>
                </a:rPr>
                <a:t> </a:t>
              </a:r>
              <a:r>
                <a:rPr b="1" lang="tr-TR" sz="3600" spc="-1" strike="noStrike">
                  <a:solidFill>
                    <a:srgbClr val="ffff00"/>
                  </a:solidFill>
                  <a:latin typeface="Monotype Corsiva"/>
                </a:rPr>
                <a:t>ÖGRETMEN</a:t>
              </a:r>
              <a:r>
                <a:rPr b="0" lang="tr-TR" sz="5400" spc="-1" strike="noStrike">
                  <a:solidFill>
                    <a:srgbClr val="ffff00"/>
                  </a:solidFill>
                  <a:latin typeface="Monotype Corsiva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79360" y="3213000"/>
              <a:ext cx="31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Mistral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68760" y="493884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Mistr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50760"/>
            <a:ext cx="3780000" cy="6744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ünyada her şey için , medeniyet iç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ayat için, başarı için en gerçek yol göster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limdir, fend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İlim ve fennin dışında yol gösterici aramak gaflettir, cehalettir, doğru yoldan sapmakt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540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2060"/>
          <a:stretch/>
        </p:blipFill>
        <p:spPr>
          <a:xfrm>
            <a:off x="1174680" y="-27000"/>
            <a:ext cx="678204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5187600"/>
            <a:ext cx="9144000" cy="155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Bu millete gideceği yolu gösterirken, dünyanın her türlü ilminden, buluşlarından, ilerlemelerinden istifade edelim.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12000" cy="5340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20520" y="5187960"/>
            <a:ext cx="9164520" cy="155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Milletimizin siyasi, sosyal hayatında olduğu gibi, fikri terbiyesinde de rehberimi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ilim ve fen olacaktır.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2760" y="-27000"/>
            <a:ext cx="6915240" cy="5184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8760" y="3238560"/>
            <a:ext cx="8985240" cy="35060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Hayat ve geçime egemen olan kuralların zaman ile değişme, gelişme ve yenilenmesi zorunludur. Medeniyetin buluşlarının , tekniğin harikalarının dünyayı değişiklikten değişikliğe uğrattığı bir devirde, asırlık köhne zihniyetlerle, geçmişe bağlılık ile varlığın korunması mümkün değildir.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25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64000" y="189000"/>
            <a:ext cx="3780000" cy="6430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Medeniyet öyle kuvvetli b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ateştir k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ona ilgisiz kalanları yakar, yok eder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Uygar olmayan insanlar ve toplumlar daima uygar olanların ayakları altında kalmaya mahkum olacaklardır.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64000" y="129960"/>
            <a:ext cx="3780000" cy="6575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Ülkemizin en bayındır, en latif , en güzel yerlerini üç buçuk yıl kirli ayaklarıyla çiğneyen düşmanı yenen zaferin sırrı nereded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bilir misiniz ? Orduların yönetiminde , bilim ve fen ilkelerini kılavuz edinmekt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53625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64000" y="125280"/>
            <a:ext cx="3780000" cy="6575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Ülkemiz içinde uygar düşüncelerin, çağdaş ilerlemelerin bir an yitirmeksizin yayılması ve gelişmesi gerekir. Bunun için bütün bilim ve fen adamlarının bu konuda çalışmayı bir namus borcu bilmesi gerekir.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43280" y="118080"/>
            <a:ext cx="4500720" cy="6573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Gözlerimizi kapayıp, yalnız yaşadığımızı varsayamayız. Ülkemizi bir çember içine alıp dünya ile ilgilenmeksizin yaşayamayı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Tersine gelişmiş, uygarlaşmış bir ulus olarak uygarlık alanının üzerinde yaşayacağı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Bu yaşam anc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bilim ve fenle ol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Bilim ve fen nerede ise oradan alacağız ve ulusun her bireyinin kafasına koyacağız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21:11:56Z</dcterms:created>
  <dc:creator>SEBO</dc:creator>
  <dc:description/>
  <dc:language>en-US</dc:language>
  <cp:lastModifiedBy>SEBO</cp:lastModifiedBy>
  <dcterms:modified xsi:type="dcterms:W3CDTF">2008-02-24T16:05:21Z</dcterms:modified>
  <cp:revision>12</cp:revision>
  <dc:subject/>
  <dc:title>Slayt 1</dc:title>
</cp:coreProperties>
</file>